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3.wmf" ContentType="image/x-wmf"/>
  <Override PartName="/ppt/media/image30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29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8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11.gif" ContentType="image/gif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dt" idx="4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 type="ftr" idx="4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 type="sldNum" idx="4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61AE-78AE-47D2-B8AB-3DA32174B35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168F-D723-438D-9CA8-859F4A3A562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22EC-8A45-4F3E-86A1-E9E51501652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030B-A243-4D30-AB6B-840C3FD4D69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4D8F-753A-43C5-9926-CD6D504AF0B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39D0-B8DC-41A7-83AF-C277373AA45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753A-D710-46E7-A195-511AB20EC30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8CA5-3CCA-4C1F-8AC4-DBAB28F66DD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80F7-2FCB-42CD-B754-805483E8B40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45B1-6BD4-4C63-A3EF-0777C3B7DC3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FED8-ACC5-473A-98F6-4124DBEF104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F5A6-0A74-40C0-BB35-2237335A85C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9A6C-4527-4B16-B857-225741F7018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7ED9-4F17-41A7-8947-9F09D761E4E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Book Antiqua"/>
              <a:ea typeface="新細明體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B17A-20E5-4755-AEF3-A859EFA2EF8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(LINCOLN) AND (abraham)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文獻列表的第一筆結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8317-9638-4621-AB26-B08F9996A34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0527-34D7-49E7-BC8D-7D7EDE05174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AB5B-155F-44D4-9773-BBC97CB7F4C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A39B-CDD2-4608-8B16-979CE00DCDA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40D2-855A-4664-AB8C-DCA2929D175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40A0-4533-49A7-9C5A-E22B5DF1E8C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BD5D-B601-462E-8C41-09DB330D841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CB2C-7CF8-47F9-9B57-3C9F86BDFAF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AAC1-D3CC-4EA5-8C6C-C612BDFB217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非营利组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THAK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供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JSTOR - Journal Storage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始于美仑基金会的数字典藏计划，成立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，是一个提供学术界的研究与学习平台，并提供学术内容的保存服务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4178-F369-4E1F-9FC1-72C1E88D02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0F80-2420-4501-A849-34AD534FEA3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3A33-8D16-456D-B1A1-7FF1DDCD21C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DC3B-7749-424C-99A4-4BDE7832B55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A1D9-64C1-4E0A-9343-28006BA7997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4B095-0EC1-4FE2-A11B-FCD297C0564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1408-EF47-48CA-A57B-FFC4A583B0A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E970-8C13-4F4D-8FC1-CE2BE7C857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63AB2-7930-49A6-B30F-D70F0B32763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CA8BB-2AA3-40AE-9D14-1998453CD9F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13FF6-25FC-477C-987A-CC0E23A8A06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9457-58BE-41B1-9EDE-C817F179DCB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F1FF-9E95-4F07-BB34-9E853A3A468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7D4B-4A47-4A65-AFAE-AD6D522A81E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69D736-43EB-4AB1-A415-0E81EA757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8710D-4FF0-49A7-AE62-EC8D6736525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597E1-5E0B-4F77-8954-B1E781007A9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FBF60-E758-4761-936B-48F16C31C1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4BEEAD-3AF1-4768-A374-E62D8732FCA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D3179-5264-4AD0-AE8A-CAEC375F513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2283B-B375-4A28-8E01-18E758BB109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06A5D-912C-4E82-AB28-5D22E618396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032C5-8ED7-4A7E-859D-D612C271DCF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360B6-FA9F-466D-BCE0-954EA977400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77B3F4-F430-482F-999F-B6B7A85BA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EC4FDA-91DA-48AB-8D3C-A930BB2DE1D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A8043-9D58-4E60-B06A-A58D06BC166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3819C6-5D9A-4F2D-A60D-4C6EE48BC01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CC43B-F444-4BA8-91E8-5C8631E1AF0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465BF-BCED-4515-9179-F0490DF07F9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B94B8-AD45-46F4-8F77-860303DA1BF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66F1E-1580-4BBD-8C7F-995B5C846CE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D21B2-344A-409B-B1D2-219C048C8C6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2EF20-648B-41F3-815B-44DD8BEE14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7BBF65-42B4-4D65-A2CF-8829A46AF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9EC7B-6B79-4341-B30A-2FF551939C2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E7F3B-CABB-4ECC-BCED-91A1021BDE8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F1285-5943-4025-8C1B-5253F6CD273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88F9-F66E-418B-8A3F-F2B0A85213A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F386-4F9C-457F-84CA-D643B9F92BB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5784B-3BBE-4801-8EC4-D072EF7FD80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70B72-8592-4EA0-B309-F938E8B1D3E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8D57E-EE33-4A66-9C0A-0FAF425BEE1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A97B-9830-428B-AE3B-E2D9CBB8F9F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46B95-9808-4A65-977C-B93F8574EE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2F471-65CD-4820-94C9-ED19B9C48A5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ED4D-822E-470C-BB77-479CD305BDD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EBF8E-B462-4E6C-B39A-28532A2EFE6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072CB-2325-4337-A2B1-C2DD813747F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92C9-5768-4902-967D-5D3970E7DB7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6DAF37-1FAC-446A-928C-B88D4A964A2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2F352-6DF4-44CB-AC5B-174A1CA5B28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9717C8-A25B-4E40-A7C7-507BDD1A121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623ABB-458B-42D7-9ED9-C7BCF7E5529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9B54D5-2920-49A1-AE2B-05356F89F5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1963FC-E1AC-41CE-B439-B23E9E7914B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11FFBD-698C-457B-BAAE-938CBC8CBD0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826F2B-9115-4C09-AA95-C971926EEEB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F41F57-6E6F-4637-9D05-7543734185A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C38D5A-7D78-414B-8DA4-09109074621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FD9071-6AFF-49C0-A2AE-CCB8D786E46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E00AD1-A8DB-4CE7-9132-947BBDC4406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44B14-3206-4115-BA3F-07F3FD32321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76C10-005F-4D75-81EB-880FCC2583F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54CDD-687A-4F82-82E7-BD20E3869F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83877-C31D-490D-8145-3D48518D7FA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D3CEE-1C80-4B8C-ADDA-FF0F8637EE8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EDD55-7A28-4415-B7B7-10B8F17239F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E00B0-BB14-4AA7-AC5C-33CBFFC47ED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FEC0C-009B-45BC-9B9E-4E4116904C4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2F2E1-F47D-4C90-BF85-8AA0A0EFB62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F6958-D7FF-4DE0-BD96-005061AB739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6CF90-C6D4-4F9B-830B-18C2E86B891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61FE4-16B7-45F9-A1D0-B069A29A02E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BFCD9-28AB-40FF-A338-C311DF748D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EF7B9-AF90-498F-810B-FFBE3F020D4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341D0-C599-4F96-BBF0-9DF5B73584B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EC21D-16B0-4068-8857-D0671BD3803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8AEC7-C165-419D-A08B-F297A9DE6FF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B800-92E7-4ECD-B3C1-41C5464B724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D9D49-12EF-41ED-9135-198ACF0B465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8B72F-FE9C-4C2E-83FC-B0078AE7665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9075F-1968-4858-9721-23C40E96020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ACB3D-099F-427C-AD12-5EFCC552CB1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E966B-ABC9-4674-8DAC-88B37ABB7C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BBA9B-029F-4DB9-BC39-5C9FE81B26F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64A-14B4-4287-9010-D182AE135C5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996-1D3B-4FB3-B1D2-10FBE78AD41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11E-04E1-4244-A85D-FEC69FB583B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4E3-59D8-47C8-A42B-4F133CC3C38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F56-A8D3-4DA4-8DF2-C2F383ECDC4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693-C373-42B6-9EFD-0E627F59E11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830-00E0-4439-B06D-3301338789E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7E9-7B48-4D0F-8EC6-B415354075A3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5731C-F076-422E-B3EC-98C3D28B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C807C-B128-42AF-8C97-5097EF65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E21A1-2FB5-4697-A083-2CBEBE85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C7F54-D811-4C37-995D-A871C80E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DF84BB-64DE-4FC9-8D90-D7DA3290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C3C-78FD-4DC9-B01D-B5874BA45F6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4EB58-4256-44A1-B66C-25BB08B7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BE170-7B22-4871-87BC-DAEEE1B1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B0B9A-10E9-49A3-BCF3-602EB817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83182-9DAB-4AC6-8E61-EDD11DC7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4F4C1-15F6-4465-A3F1-C52985C5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58ADB-A772-4ECE-B259-D429E591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6F77B-1B20-44D8-9FAE-B874BC47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DA3-67D8-41E1-9425-156B55D04F38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5A6937-68FF-4CEE-B1D9-34E2B9683F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EAD-876F-41E1-8C75-9ABE067D9A12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272BE6-1136-4538-A943-6B154C68829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8DE2F9-E3A5-4F90-81FD-2C88A57D3FE1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F1AABC-47E2-4E46-AD28-9E05C0E00EB3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78B2C1-3CBA-4905-84F0-6C9BC0F9D3C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B293CB-3D05-4065-8A63-BB4968F63BC5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583F33-EAA0-4091-8B67-9DACAB5B8BB8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DB688F-6656-4406-84B2-CCC77C4B556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17D1DC-A8D1-4345-9C35-741DA697E1B8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A8FEF9-DFF6-430F-80F2-19BA98BF79CC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DCC92C-E624-47C3-9A88-2A9BBC12CC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A05-9272-4DB4-AB06-52389886016B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4BCC94-ED2E-43DA-96FC-0C88CB06F7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24A70-D5D0-41AB-82F0-9202EFDF23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598ED-ACCF-47F5-B781-8250505314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B054C-3415-4FAE-B19D-E307643D6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33171-1F04-4E52-9D8F-849EE6DCFE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8AC82-4B2C-4874-A60E-84C06435A6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34A3D-B387-4CEC-A648-5503A70D85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13A91-71B8-49E8-AC96-C3B6862D4F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FD2FA-E0E8-4C23-914F-E66444BF1E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C84BD-E6C3-4D95-B5B9-7CECF601BB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61FDF-857E-4FE2-AEF4-05DA45C45E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91349-EAEE-4154-B619-9CA8BC8BA8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B5556-285D-4CC2-92BA-07B623D0DD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59243-57BD-429F-BBFF-629B7DA08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B3D4A-6E13-4E4F-AAB2-FFA4ABFA36B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921AF-BFA0-4560-9085-8066B35CD37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89290-3692-431C-88B3-4AA8EEFA3A4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BE37F-F5B1-44CD-85C6-100547BEDC9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D1632-EB48-47A3-B25F-9A1CEF52EA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4B362-3666-46F9-B7C5-B3E90B8B9C0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564C0-7129-49F4-82C7-2297895E9B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6D5D6-5B89-431F-A0DC-60FBDA01944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FD93A-BD23-4E96-AD48-F584DA00D00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FE83F-1CD2-47B7-A22A-368D2675E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FF941-AA13-40CE-8D4A-1AB505056F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57CD-7725-4174-80CA-2E7A6DC50E1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FC85-77FA-4BBA-BB4D-77A8A65B588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0AFA-217F-48CB-84F3-DCEBDBC5B24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CC05-B2FB-4E30-9DC6-390C83DD75F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1D06-DCBC-4E90-9F1D-A06EE22B4E1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5F16-F153-4683-8C25-56AC991971D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8D08-F70D-4F45-9697-A2D53212B8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A035-91AB-4AC7-844A-85A86B2C279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6305-EECF-4DA7-B6C3-66A6A7BD4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8599-A5CD-4219-919E-C8A23D2EBD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F684-859D-47C0-B04B-2A04D11C05E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DB1A-A28C-4CCE-A507-643752FA2D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8CBE8-889C-47B2-93A8-E2AD169B7EC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3DE321-1E5E-4CE9-A6F3-456B31CA12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57F30-6283-40C5-852D-6B7355C2B5B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B7532-C45C-4F75-A77D-7DA5EF39A09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6C85E-CE92-4273-ADE1-4C4D6892BFC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E6B9D6-C5D9-4A97-B3CE-3B1FAEADB2B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C2633-FFFB-4957-A543-51AD9A105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9D58B8-F67A-4608-9B84-BB6ABE10D83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6660D-989C-42B8-9DCF-6C38A3956C3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A85555-3854-4B8A-A63B-3ADA5F97AD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769E18-77B3-4AA6-B96D-C2470B7E70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0A977-534A-4EDA-9A31-FDE36846AFF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77C24-A99A-478C-BE32-90B8BAB9572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40663-5CC4-4F05-ABAA-93041A939B3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7D64B-D62C-473B-B08C-DA32009C4C9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67F0B-347B-409A-A0CD-3C1F3A75D8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AC368-C09C-45D4-BA96-5E115A3D5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5417E-1020-4E6E-AD9A-A07B3E51E6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FEBDE-E037-49E6-A62D-B320D7960F9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BCC23-602A-42A3-8688-8B29E3CBDB0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F8823-4553-4D89-A4F5-62AD543E20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71677-07A8-4042-B771-3ABA7045A50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C4075-DBAE-4D0D-865E-CEA0DDE6C81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2D11D-70D9-4124-BC2F-D98AE9F6759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6595C-0B00-4F71-B5E3-C02CFC178D3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9976-CE4A-4D9C-8D41-55F8F7B717C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60A8-CCB3-405C-8178-BD687A3CB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Text Box 11"/>
          <p:cNvSpPr/>
          <p:nvPr/>
        </p:nvSpPr>
        <p:spPr>
          <a:xfrm>
            <a:off x="242280" y="6552360"/>
            <a:ext cx="20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4" name="Picture 9" descr="知識服務_橫"/>
          <p:cNvPicPr/>
          <p:nvPr/>
        </p:nvPicPr>
        <p:blipFill>
          <a:blip r:embed="rId4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378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0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420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1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462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2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1"/>
          <p:cNvSpPr/>
          <p:nvPr/>
        </p:nvSpPr>
        <p:spPr>
          <a:xfrm>
            <a:off x="24156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504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3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546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14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588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Num" idx="15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1"/>
          <p:cNvSpPr/>
          <p:nvPr/>
        </p:nvSpPr>
        <p:spPr>
          <a:xfrm>
            <a:off x="242280" y="6552360"/>
            <a:ext cx="20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630" name="Picture 9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7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23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71A7-69AB-4331-837C-61D30FD589ED}" type="slidenum">
              <a:rPr b="0" lang="zh-TW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65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242280" y="6552360"/>
            <a:ext cx="20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84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1205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206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120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sldNum" idx="44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232560" y="6552360"/>
            <a:ext cx="20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26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4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68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5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210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252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7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294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8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336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9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gif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13" descr="blue_background"/>
          <p:cNvPicPr/>
          <p:nvPr/>
        </p:nvPicPr>
        <p:blipFill>
          <a:blip r:embed="rId1"/>
          <a:stretch/>
        </p:blipFill>
        <p:spPr>
          <a:xfrm>
            <a:off x="-23760" y="25560"/>
            <a:ext cx="9167760" cy="6876720"/>
          </a:xfrm>
          <a:prstGeom prst="rect">
            <a:avLst/>
          </a:prstGeom>
          <a:ln w="0">
            <a:noFill/>
          </a:ln>
        </p:spPr>
      </p:pic>
      <p:sp>
        <p:nvSpPr>
          <p:cNvPr id="1254" name="Text Box 5"/>
          <p:cNvSpPr/>
          <p:nvPr/>
        </p:nvSpPr>
        <p:spPr>
          <a:xfrm>
            <a:off x="241200" y="2117520"/>
            <a:ext cx="8250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d7de"/>
                </a:solidFill>
                <a:latin typeface="Book Antiqua"/>
                <a:ea typeface="標楷體"/>
              </a:rPr>
              <a:t>JSTOR </a:t>
            </a:r>
            <a:r>
              <a:rPr b="1" lang="zh-TW" sz="3600" spc="-1" strike="noStrike">
                <a:solidFill>
                  <a:srgbClr val="cbd7de"/>
                </a:solidFill>
                <a:latin typeface="Book Antiqua"/>
                <a:ea typeface="標楷體"/>
              </a:rPr>
              <a:t>使用指南</a:t>
            </a:r>
            <a:endParaRPr b="1" lang="en-US" sz="3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d7de"/>
                </a:solidFill>
                <a:latin typeface="Book Antiqua"/>
                <a:ea typeface="標楷體"/>
              </a:rPr>
              <a:t>FlySheet Info-Aggregate</a:t>
            </a:r>
            <a:endParaRPr b="1" lang="en-US" sz="2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255" name="Picture 16" descr=""/>
          <p:cNvPicPr/>
          <p:nvPr/>
        </p:nvPicPr>
        <p:blipFill>
          <a:blip r:embed="rId2"/>
          <a:srcRect l="0" t="4794" r="0" b="0"/>
          <a:stretch/>
        </p:blipFill>
        <p:spPr>
          <a:xfrm>
            <a:off x="0" y="6350040"/>
            <a:ext cx="5667480" cy="50796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17" descr=""/>
          <p:cNvPicPr/>
          <p:nvPr/>
        </p:nvPicPr>
        <p:blipFill>
          <a:blip r:embed="rId3"/>
          <a:srcRect l="48183" t="2363" r="-14558" b="0"/>
          <a:stretch/>
        </p:blipFill>
        <p:spPr>
          <a:xfrm>
            <a:off x="4605480" y="6337440"/>
            <a:ext cx="3762360" cy="52056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10" descr="知識服務_橫"/>
          <p:cNvPicPr/>
          <p:nvPr/>
        </p:nvPicPr>
        <p:blipFill>
          <a:blip r:embed="rId4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3120" y="88560"/>
            <a:ext cx="771696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95f"/>
                </a:solidFill>
                <a:latin typeface="Book Antiqua"/>
              </a:rPr>
              <a:t>JSTOR</a:t>
            </a:r>
            <a:r>
              <a:rPr b="1" lang="zh-TW" sz="3600" spc="-1" strike="noStrike">
                <a:solidFill>
                  <a:srgbClr val="5a595f"/>
                </a:solidFill>
                <a:latin typeface="Book Antiqua"/>
              </a:rPr>
              <a:t>界面使用說明</a:t>
            </a:r>
            <a:endParaRPr b="0" lang="en-US" sz="3600" spc="-1" strike="noStrike">
              <a:solidFill>
                <a:srgbClr val="5a595f"/>
              </a:solidFill>
              <a:latin typeface="Book Antiqua"/>
            </a:endParaRPr>
          </a:p>
        </p:txBody>
      </p:sp>
      <p:pic>
        <p:nvPicPr>
          <p:cNvPr id="1281" name="Picture 8" descr=""/>
          <p:cNvPicPr/>
          <p:nvPr/>
        </p:nvPicPr>
        <p:blipFill>
          <a:blip r:embed="rId1"/>
          <a:stretch/>
        </p:blipFill>
        <p:spPr>
          <a:xfrm>
            <a:off x="55440" y="1438200"/>
            <a:ext cx="8305920" cy="412452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7"/>
          <p:cNvSpPr/>
          <p:nvPr/>
        </p:nvSpPr>
        <p:spPr>
          <a:xfrm>
            <a:off x="5372280" y="2604960"/>
            <a:ext cx="3649320" cy="2476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JSTOR </a:t>
            </a: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新界面的重要功能說明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:</a:t>
            </a:r>
            <a:endParaRPr b="1" lang="en-US" sz="1800" spc="-1" strike="noStrike">
              <a:solidFill>
                <a:srgbClr val="415663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提供更容易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, </a:t>
            </a: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更方便的使用者界面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使用者可以免費檢索索摘資訊 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加強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MYJSTOR</a:t>
            </a: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的個人化管理功能， 新增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SAVE Search.</a:t>
            </a: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可以儲存個人資訊及註記的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citations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透過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MYJSTOR</a:t>
            </a: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加強了圖書館管理的功能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13" descr=""/>
          <p:cNvPicPr/>
          <p:nvPr/>
        </p:nvPicPr>
        <p:blipFill>
          <a:blip r:embed="rId1"/>
          <a:stretch/>
        </p:blipFill>
        <p:spPr>
          <a:xfrm>
            <a:off x="281160" y="743040"/>
            <a:ext cx="8581680" cy="611496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69640" y="131760"/>
            <a:ext cx="7716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界面使用說明：主畫面</a:t>
            </a:r>
            <a:endParaRPr b="0" lang="en-US" sz="32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85" name="Text Box 7"/>
          <p:cNvSpPr/>
          <p:nvPr/>
        </p:nvSpPr>
        <p:spPr>
          <a:xfrm>
            <a:off x="8143920" y="885960"/>
            <a:ext cx="1000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86" name="Text Box 21"/>
          <p:cNvSpPr/>
          <p:nvPr/>
        </p:nvSpPr>
        <p:spPr>
          <a:xfrm>
            <a:off x="92160" y="1069920"/>
            <a:ext cx="2435040" cy="34956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檢索功能列及</a:t>
            </a:r>
            <a:r>
              <a:rPr b="1" lang="en-US" sz="14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MyJSTOR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87" name="Text Box 22"/>
          <p:cNvSpPr/>
          <p:nvPr/>
        </p:nvSpPr>
        <p:spPr>
          <a:xfrm>
            <a:off x="4376880" y="2817720"/>
            <a:ext cx="1112760" cy="3859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快速檢索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88" name="Text Box 25"/>
          <p:cNvSpPr/>
          <p:nvPr/>
        </p:nvSpPr>
        <p:spPr>
          <a:xfrm>
            <a:off x="6762600" y="1471680"/>
            <a:ext cx="2368800" cy="337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登入及線上輔助功能列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312840" y="720720"/>
            <a:ext cx="2966760" cy="308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1946160" y="2489040"/>
            <a:ext cx="2691000" cy="30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91" name="Rectangle 13"/>
          <p:cNvSpPr/>
          <p:nvPr/>
        </p:nvSpPr>
        <p:spPr>
          <a:xfrm>
            <a:off x="7419960" y="884160"/>
            <a:ext cx="1401840" cy="30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-6480" y="2265480"/>
            <a:ext cx="9112320" cy="223200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17360" y="79200"/>
            <a:ext cx="771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功能列概覽</a:t>
            </a:r>
            <a:endParaRPr b="0" lang="en-US" sz="32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94" name="Text Box 9"/>
          <p:cNvSpPr/>
          <p:nvPr/>
        </p:nvSpPr>
        <p:spPr>
          <a:xfrm>
            <a:off x="1844640" y="853920"/>
            <a:ext cx="1486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★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檢索功能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1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進階檢索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2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特定文獻查找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95" name="Text Box 14"/>
          <p:cNvSpPr/>
          <p:nvPr/>
        </p:nvSpPr>
        <p:spPr>
          <a:xfrm>
            <a:off x="1989000" y="5126040"/>
            <a:ext cx="13525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</a:rPr>
              <a:t>★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瀏覽功能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1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按主題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2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按出版品名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3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按出版社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96" name="Text Box 26"/>
          <p:cNvSpPr/>
          <p:nvPr/>
        </p:nvSpPr>
        <p:spPr>
          <a:xfrm>
            <a:off x="4964040" y="15840"/>
            <a:ext cx="27766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747155"/>
                </a:solidFill>
                <a:latin typeface="Book Antiqua"/>
              </a:rPr>
              <a:t>                      ★</a:t>
            </a:r>
            <a:r>
              <a:rPr b="0" lang="zh-TW" sz="1400" spc="-1" strike="noStrike">
                <a:solidFill>
                  <a:srgbClr val="747155"/>
                </a:solidFill>
                <a:latin typeface="Book Antiqua"/>
                <a:ea typeface="標楷體"/>
              </a:rPr>
              <a:t>個人化書目服務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1.Manage Account:          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876"/>
              </a:spcBef>
              <a:buClr>
                <a:srgbClr val="74715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747155"/>
                </a:solidFill>
                <a:latin typeface="Book Antiqua"/>
                <a:ea typeface="標楷體"/>
              </a:rPr>
              <a:t>瀏覽編輯個人書目紀錄 </a:t>
            </a:r>
            <a:r>
              <a:rPr b="1" lang="en-US" sz="1400" spc="-1" strike="noStrike">
                <a:solidFill>
                  <a:srgbClr val="747155"/>
                </a:solidFill>
                <a:latin typeface="Book Antiqua"/>
                <a:ea typeface="MS PGothic"/>
              </a:rPr>
              <a:t>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876"/>
              </a:spcBef>
              <a:buClr>
                <a:srgbClr val="74715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747155"/>
                </a:solidFill>
                <a:latin typeface="Book Antiqua"/>
                <a:ea typeface="標楷體"/>
              </a:rPr>
              <a:t>編輯追蹤期刊動態          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876"/>
              </a:spcBef>
              <a:buClr>
                <a:srgbClr val="74715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747155"/>
                </a:solidFill>
                <a:latin typeface="Book Antiqua"/>
                <a:ea typeface="標楷體"/>
              </a:rPr>
              <a:t>儲存查詢結果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2.Shelf: </a:t>
            </a:r>
            <a:r>
              <a:rPr b="0" lang="zh-TW" sz="1400" spc="-1" strike="noStrike">
                <a:solidFill>
                  <a:srgbClr val="747155"/>
                </a:solidFill>
                <a:latin typeface="Book Antiqua"/>
                <a:ea typeface="標楷體"/>
              </a:rPr>
              <a:t>儲存書目             </a:t>
            </a:r>
            <a:r>
              <a:rPr b="1" lang="en-US" sz="1400" spc="-1" strike="noStrike">
                <a:solidFill>
                  <a:srgbClr val="747155"/>
                </a:solidFill>
                <a:latin typeface="Book Antiqua"/>
                <a:ea typeface="MS PGothic"/>
              </a:rPr>
              <a:t>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3.Profile:</a:t>
            </a:r>
            <a:r>
              <a:rPr b="0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 </a:t>
            </a:r>
            <a:r>
              <a:rPr b="0" lang="zh-TW" sz="1400" spc="-1" strike="noStrike">
                <a:solidFill>
                  <a:srgbClr val="747155"/>
                </a:solidFill>
                <a:latin typeface="Book Antiqua"/>
                <a:ea typeface="標楷體"/>
              </a:rPr>
              <a:t>個人資料修改     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297" name="Picture 31" descr=""/>
          <p:cNvPicPr/>
          <p:nvPr/>
        </p:nvPicPr>
        <p:blipFill>
          <a:blip r:embed="rId2"/>
          <a:srcRect l="0" t="4817" r="0" b="0"/>
          <a:stretch/>
        </p:blipFill>
        <p:spPr>
          <a:xfrm>
            <a:off x="330120" y="1066680"/>
            <a:ext cx="1447920" cy="56196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32" descr=""/>
          <p:cNvPicPr/>
          <p:nvPr/>
        </p:nvPicPr>
        <p:blipFill>
          <a:blip r:embed="rId3"/>
          <a:stretch/>
        </p:blipFill>
        <p:spPr>
          <a:xfrm>
            <a:off x="449280" y="5130720"/>
            <a:ext cx="1387440" cy="839880"/>
          </a:xfrm>
          <a:prstGeom prst="rect">
            <a:avLst/>
          </a:prstGeom>
          <a:ln w="0">
            <a:noFill/>
          </a:ln>
        </p:spPr>
      </p:pic>
      <p:cxnSp>
        <p:nvCxnSpPr>
          <p:cNvPr id="1299" name="肘形接點 12"/>
          <p:cNvCxnSpPr/>
          <p:nvPr/>
        </p:nvCxnSpPr>
        <p:spPr>
          <a:xfrm>
            <a:off x="1701720" y="2095560"/>
            <a:ext cx="915120" cy="915120"/>
          </a:xfrm>
          <a:prstGeom prst="bentConnector3">
            <a:avLst>
              <a:gd name="adj1" fmla="val 49980"/>
            </a:avLst>
          </a:prstGeom>
          <a:ln w="0">
            <a:noFill/>
          </a:ln>
        </p:spPr>
      </p:cxnSp>
      <p:cxnSp>
        <p:nvCxnSpPr>
          <p:cNvPr id="1300" name="肘形接點 23"/>
          <p:cNvCxnSpPr/>
          <p:nvPr/>
        </p:nvCxnSpPr>
        <p:spPr>
          <a:xfrm rot="5400000">
            <a:off x="-720" y="3238560"/>
            <a:ext cx="2464560" cy="1092960"/>
          </a:xfrm>
          <a:prstGeom prst="bentConnector3">
            <a:avLst>
              <a:gd name="adj1" fmla="val 41358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301" name="肘形接點 25"/>
          <p:cNvCxnSpPr/>
          <p:nvPr/>
        </p:nvCxnSpPr>
        <p:spPr>
          <a:xfrm flipV="1" rot="16200000">
            <a:off x="563760" y="1684080"/>
            <a:ext cx="622800" cy="559080"/>
          </a:xfrm>
          <a:prstGeom prst="bentConnector3">
            <a:avLst>
              <a:gd name="adj1" fmla="val 49971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302" name="肘形接點 40"/>
          <p:cNvCxnSpPr/>
          <p:nvPr/>
        </p:nvCxnSpPr>
        <p:spPr>
          <a:xfrm flipV="1">
            <a:off x="2944440" y="1979280"/>
            <a:ext cx="672120" cy="50184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303" name="Text Box 20"/>
          <p:cNvSpPr/>
          <p:nvPr/>
        </p:nvSpPr>
        <p:spPr>
          <a:xfrm>
            <a:off x="6469200" y="4830840"/>
            <a:ext cx="1684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Book Antiqua"/>
              </a:rPr>
              <a:t>★</a:t>
            </a:r>
            <a:r>
              <a:rPr b="0" lang="zh-TW" sz="1400" spc="-1" strike="noStrike">
                <a:solidFill>
                  <a:srgbClr val="415663"/>
                </a:solidFill>
                <a:latin typeface="Book Antiqua"/>
                <a:ea typeface="標楷體"/>
              </a:rPr>
              <a:t>關於</a:t>
            </a:r>
            <a:r>
              <a:rPr b="0" lang="en-US" sz="1400" spc="-1" strike="noStrike">
                <a:solidFill>
                  <a:srgbClr val="415663"/>
                </a:solidFill>
                <a:latin typeface="Book Antiqua"/>
                <a:ea typeface="標楷體"/>
              </a:rPr>
              <a:t>JSTOR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Book Antiqua"/>
                <a:ea typeface="標楷體"/>
              </a:rPr>
              <a:t>1.Publisher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Book Antiqua"/>
                <a:ea typeface="標楷體"/>
              </a:rPr>
              <a:t>2.Libraries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Book Antiqua"/>
                <a:ea typeface="標楷體"/>
              </a:rPr>
              <a:t>3.Collections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cxnSp>
        <p:nvCxnSpPr>
          <p:cNvPr id="1304" name="肘形接點 46"/>
          <p:cNvCxnSpPr/>
          <p:nvPr/>
        </p:nvCxnSpPr>
        <p:spPr>
          <a:xfrm rot="5400000">
            <a:off x="6720480" y="2949480"/>
            <a:ext cx="2115360" cy="1639080"/>
          </a:xfrm>
          <a:prstGeom prst="bentConnector3">
            <a:avLst>
              <a:gd name="adj1" fmla="val 49991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1305" name="Picture 17" descr=""/>
          <p:cNvPicPr/>
          <p:nvPr/>
        </p:nvPicPr>
        <p:blipFill>
          <a:blip r:embed="rId4"/>
          <a:stretch/>
        </p:blipFill>
        <p:spPr>
          <a:xfrm>
            <a:off x="3592440" y="647640"/>
            <a:ext cx="1176480" cy="1419120"/>
          </a:xfrm>
          <a:prstGeom prst="rect">
            <a:avLst/>
          </a:prstGeom>
          <a:ln w="0">
            <a:noFill/>
          </a:ln>
        </p:spPr>
      </p:pic>
      <p:sp>
        <p:nvSpPr>
          <p:cNvPr id="1306" name="Line 18"/>
          <p:cNvSpPr/>
          <p:nvPr/>
        </p:nvSpPr>
        <p:spPr>
          <a:xfrm>
            <a:off x="7431120" y="304920"/>
            <a:ext cx="0" cy="145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07" name="Line 19"/>
          <p:cNvSpPr/>
          <p:nvPr/>
        </p:nvSpPr>
        <p:spPr>
          <a:xfrm>
            <a:off x="7153200" y="484200"/>
            <a:ext cx="20880" cy="1628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08" name="矩形 17"/>
          <p:cNvSpPr/>
          <p:nvPr/>
        </p:nvSpPr>
        <p:spPr>
          <a:xfrm>
            <a:off x="7267680" y="378000"/>
            <a:ext cx="20336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4. </a:t>
            </a:r>
            <a:r>
              <a:rPr b="1" lang="en-US" sz="1400" spc="-1" strike="noStrike">
                <a:solidFill>
                  <a:srgbClr val="747155"/>
                </a:solidFill>
                <a:latin typeface="Arial"/>
              </a:rPr>
              <a:t>Access: </a:t>
            </a:r>
            <a:r>
              <a:rPr b="0" lang="zh-TW" sz="1400" spc="-1" strike="noStrike">
                <a:solidFill>
                  <a:srgbClr val="747155"/>
                </a:solidFill>
                <a:latin typeface="Arial"/>
                <a:ea typeface="標楷體"/>
              </a:rPr>
              <a:t>進入資訊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5. </a:t>
            </a:r>
            <a:r>
              <a:rPr b="1" lang="en-US" sz="1400" spc="-1" strike="noStrike">
                <a:solidFill>
                  <a:srgbClr val="747155"/>
                </a:solidFill>
                <a:latin typeface="Arial"/>
              </a:rPr>
              <a:t>Usage Statistics :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747155"/>
                </a:solidFill>
                <a:latin typeface="Arial"/>
                <a:ea typeface="標楷體"/>
              </a:rPr>
              <a:t>執行各式統計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6.</a:t>
            </a:r>
            <a:r>
              <a:rPr b="0" lang="zh-TW" sz="1400" spc="-1" strike="noStrike">
                <a:solidFill>
                  <a:srgbClr val="747155"/>
                </a:solidFill>
                <a:latin typeface="Arial"/>
                <a:ea typeface="標楷體"/>
              </a:rPr>
              <a:t> </a:t>
            </a:r>
            <a:r>
              <a:rPr b="1" lang="en-US" sz="1400" spc="-1" strike="noStrike">
                <a:solidFill>
                  <a:srgbClr val="747155"/>
                </a:solidFill>
                <a:latin typeface="Arial"/>
              </a:rPr>
              <a:t>Administration</a:t>
            </a:r>
            <a:r>
              <a:rPr b="1" lang="zh-TW" sz="1400" spc="-1" strike="noStrike">
                <a:solidFill>
                  <a:srgbClr val="74715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747155"/>
                </a:solidFill>
                <a:latin typeface="Arial"/>
              </a:rPr>
              <a:t>: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747155"/>
                </a:solidFill>
                <a:latin typeface="Arial"/>
                <a:ea typeface="標楷體"/>
              </a:rPr>
              <a:t>管理帳號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9" name="Picture 3" descr=""/>
          <p:cNvPicPr/>
          <p:nvPr/>
        </p:nvPicPr>
        <p:blipFill>
          <a:blip r:embed="rId1"/>
          <a:stretch/>
        </p:blipFill>
        <p:spPr>
          <a:xfrm>
            <a:off x="723960" y="895320"/>
            <a:ext cx="7416720" cy="5570640"/>
          </a:xfrm>
          <a:prstGeom prst="rect">
            <a:avLst/>
          </a:prstGeom>
          <a:ln w="0">
            <a:noFill/>
          </a:ln>
        </p:spPr>
      </p:pic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64680" y="110880"/>
            <a:ext cx="84330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界面使用說明：瀏覽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by Subject</a:t>
            </a:r>
            <a:endParaRPr b="0" lang="en-US" sz="32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11" name="Rectangle 10"/>
          <p:cNvSpPr/>
          <p:nvPr/>
        </p:nvSpPr>
        <p:spPr>
          <a:xfrm>
            <a:off x="4405320" y="3371760"/>
            <a:ext cx="2257560" cy="308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6272280" y="3730680"/>
            <a:ext cx="2178000" cy="58068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Trebuchet MS"/>
                <a:ea typeface="標楷體"/>
              </a:rPr>
              <a:t>在每個主題後會呈現出來收錄的期刊數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13" name="Rectangle 15"/>
          <p:cNvSpPr/>
          <p:nvPr/>
        </p:nvSpPr>
        <p:spPr>
          <a:xfrm>
            <a:off x="723960" y="1747800"/>
            <a:ext cx="1487520" cy="30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14" name="Text Box 17"/>
          <p:cNvSpPr/>
          <p:nvPr/>
        </p:nvSpPr>
        <p:spPr>
          <a:xfrm>
            <a:off x="2341440" y="1689120"/>
            <a:ext cx="149400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主題清單列表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Picture 10" descr=""/>
          <p:cNvPicPr/>
          <p:nvPr/>
        </p:nvPicPr>
        <p:blipFill>
          <a:blip r:embed="rId1"/>
          <a:stretch/>
        </p:blipFill>
        <p:spPr>
          <a:xfrm>
            <a:off x="731880" y="942840"/>
            <a:ext cx="7427880" cy="4986360"/>
          </a:xfrm>
          <a:prstGeom prst="rect">
            <a:avLst/>
          </a:prstGeom>
          <a:ln w="0">
            <a:noFill/>
          </a:ln>
        </p:spPr>
      </p:pic>
      <p:sp>
        <p:nvSpPr>
          <p:cNvPr id="1316" name="Rectangle 12"/>
          <p:cNvSpPr/>
          <p:nvPr/>
        </p:nvSpPr>
        <p:spPr>
          <a:xfrm>
            <a:off x="766800" y="2052720"/>
            <a:ext cx="49528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17" name="Text Box 13"/>
          <p:cNvSpPr/>
          <p:nvPr/>
        </p:nvSpPr>
        <p:spPr>
          <a:xfrm>
            <a:off x="3355920" y="1711440"/>
            <a:ext cx="322740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出版品清單列表</a:t>
            </a:r>
            <a:r>
              <a:rPr b="0" lang="en-US" sz="1600" spc="-1" strike="noStrike">
                <a:solidFill>
                  <a:srgbClr val="415663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依字母順序排列</a:t>
            </a:r>
            <a:r>
              <a:rPr b="0" lang="en-US" sz="1600" spc="-1" strike="noStrike">
                <a:solidFill>
                  <a:srgbClr val="415663"/>
                </a:solidFill>
                <a:latin typeface="Arial"/>
                <a:ea typeface="標楷體"/>
              </a:rPr>
              <a:t>)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18" name="Text Box 16"/>
          <p:cNvSpPr/>
          <p:nvPr/>
        </p:nvSpPr>
        <p:spPr>
          <a:xfrm>
            <a:off x="2409840" y="3645000"/>
            <a:ext cx="1596960" cy="58068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Trebuchet MS"/>
                <a:ea typeface="標楷體"/>
              </a:rPr>
              <a:t>提供連結到該出版品之資訊與內容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19" name="Text Box 16"/>
          <p:cNvSpPr/>
          <p:nvPr/>
        </p:nvSpPr>
        <p:spPr>
          <a:xfrm>
            <a:off x="5108400" y="3490920"/>
            <a:ext cx="1257480" cy="58068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5663"/>
                </a:solidFill>
                <a:latin typeface="Trebuchet MS"/>
                <a:ea typeface="標楷體"/>
              </a:rPr>
              <a:t>JSTOR</a:t>
            </a:r>
            <a:r>
              <a:rPr b="0" lang="zh-TW" sz="1600" spc="-1" strike="noStrike">
                <a:solidFill>
                  <a:srgbClr val="415663"/>
                </a:solidFill>
                <a:latin typeface="Trebuchet MS"/>
                <a:ea typeface="標楷體"/>
              </a:rPr>
              <a:t>中收錄全文的範圍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0" name="Rectangle 12"/>
          <p:cNvSpPr/>
          <p:nvPr/>
        </p:nvSpPr>
        <p:spPr>
          <a:xfrm>
            <a:off x="4584600" y="3618000"/>
            <a:ext cx="417600" cy="1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1" name="Rectangle 12"/>
          <p:cNvSpPr/>
          <p:nvPr/>
        </p:nvSpPr>
        <p:spPr>
          <a:xfrm>
            <a:off x="1320840" y="3546360"/>
            <a:ext cx="75564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2" name="Rectangle 2"/>
          <p:cNvSpPr/>
          <p:nvPr/>
        </p:nvSpPr>
        <p:spPr>
          <a:xfrm>
            <a:off x="401760" y="90360"/>
            <a:ext cx="843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標楷體"/>
                <a:ea typeface="標楷體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標楷體"/>
                <a:ea typeface="標楷體"/>
              </a:rPr>
              <a:t>界面使用說明：瀏覽</a:t>
            </a:r>
            <a:r>
              <a:rPr b="1" lang="en-US" sz="3200" spc="-1" strike="noStrike">
                <a:solidFill>
                  <a:srgbClr val="5a595f"/>
                </a:solidFill>
                <a:latin typeface="標楷體"/>
                <a:ea typeface="標楷體"/>
              </a:rPr>
              <a:t>by Title</a:t>
            </a:r>
            <a:endParaRPr b="1" lang="en-US" sz="3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3" name="矩形 11"/>
          <p:cNvSpPr/>
          <p:nvPr/>
        </p:nvSpPr>
        <p:spPr>
          <a:xfrm>
            <a:off x="606600" y="2363760"/>
            <a:ext cx="3882960" cy="344520"/>
          </a:xfrm>
          <a:prstGeom prst="rect">
            <a:avLst/>
          </a:pr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4" name="Text Box 13"/>
          <p:cNvSpPr/>
          <p:nvPr/>
        </p:nvSpPr>
        <p:spPr>
          <a:xfrm>
            <a:off x="4233960" y="2637000"/>
            <a:ext cx="275436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標楷體"/>
              </a:rPr>
              <a:t>New feature!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全部內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| 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期刊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| 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電子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| 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簡冊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5" name="Picture 11" descr=""/>
          <p:cNvPicPr/>
          <p:nvPr/>
        </p:nvPicPr>
        <p:blipFill>
          <a:blip r:embed="rId1"/>
          <a:stretch/>
        </p:blipFill>
        <p:spPr>
          <a:xfrm>
            <a:off x="785880" y="979560"/>
            <a:ext cx="7388280" cy="4949640"/>
          </a:xfrm>
          <a:prstGeom prst="rect">
            <a:avLst/>
          </a:prstGeom>
          <a:ln w="0">
            <a:noFill/>
          </a:ln>
        </p:spPr>
      </p:pic>
      <p:sp>
        <p:nvSpPr>
          <p:cNvPr id="1326" name="Text Box 17"/>
          <p:cNvSpPr/>
          <p:nvPr/>
        </p:nvSpPr>
        <p:spPr>
          <a:xfrm>
            <a:off x="2762280" y="1765440"/>
            <a:ext cx="227952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依出版社字母順序排序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7" name="Text Box 18"/>
          <p:cNvSpPr/>
          <p:nvPr/>
        </p:nvSpPr>
        <p:spPr>
          <a:xfrm>
            <a:off x="3471840" y="4584600"/>
            <a:ext cx="201600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點選出版品即進入出版品瀏覽頁面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8" name="Text Box 18"/>
          <p:cNvSpPr/>
          <p:nvPr/>
        </p:nvSpPr>
        <p:spPr>
          <a:xfrm>
            <a:off x="2778120" y="2776680"/>
            <a:ext cx="201456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點選出版社名稱連至出版社資訊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9" name="Rectangle 12"/>
          <p:cNvSpPr/>
          <p:nvPr/>
        </p:nvSpPr>
        <p:spPr>
          <a:xfrm>
            <a:off x="803160" y="2122560"/>
            <a:ext cx="499104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0" name="Rectangle 12"/>
          <p:cNvSpPr/>
          <p:nvPr/>
        </p:nvSpPr>
        <p:spPr>
          <a:xfrm>
            <a:off x="803160" y="2889360"/>
            <a:ext cx="197496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1" name="Rectangle 12"/>
          <p:cNvSpPr/>
          <p:nvPr/>
        </p:nvSpPr>
        <p:spPr>
          <a:xfrm>
            <a:off x="1295280" y="4678200"/>
            <a:ext cx="200340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2" name="Rectangle 2"/>
          <p:cNvSpPr/>
          <p:nvPr/>
        </p:nvSpPr>
        <p:spPr>
          <a:xfrm>
            <a:off x="561960" y="73080"/>
            <a:ext cx="8645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界面使用說明：瀏覽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by Publisher</a:t>
            </a:r>
            <a:endParaRPr b="1" lang="en-US" sz="3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Picture 2" descr=""/>
          <p:cNvPicPr/>
          <p:nvPr/>
        </p:nvPicPr>
        <p:blipFill>
          <a:blip r:embed="rId1"/>
          <a:stretch/>
        </p:blipFill>
        <p:spPr>
          <a:xfrm>
            <a:off x="201600" y="866880"/>
            <a:ext cx="8142480" cy="404496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54160" y="87120"/>
            <a:ext cx="84787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出版社資訊連結 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Publisher Information</a:t>
            </a:r>
            <a:endParaRPr b="0" lang="en-US" sz="32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35" name="Text Box 6"/>
          <p:cNvSpPr/>
          <p:nvPr/>
        </p:nvSpPr>
        <p:spPr>
          <a:xfrm>
            <a:off x="6395400" y="4780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Times New Roman"/>
                <a:ea typeface="標楷體"/>
              </a:rPr>
              <a:t></a:t>
            </a: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6" name="Text Box 16"/>
          <p:cNvSpPr/>
          <p:nvPr/>
        </p:nvSpPr>
        <p:spPr>
          <a:xfrm>
            <a:off x="798480" y="1206360"/>
            <a:ext cx="182736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出版社名稱與網站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7" name="Text Box 18"/>
          <p:cNvSpPr/>
          <p:nvPr/>
        </p:nvSpPr>
        <p:spPr>
          <a:xfrm>
            <a:off x="4527720" y="1574640"/>
            <a:ext cx="122076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出版社簡介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8" name="Text Box 19"/>
          <p:cNvSpPr/>
          <p:nvPr/>
        </p:nvSpPr>
        <p:spPr>
          <a:xfrm>
            <a:off x="1335240" y="5240160"/>
            <a:ext cx="306684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出版社收錄在</a:t>
            </a:r>
            <a:r>
              <a:rPr b="0" lang="en-US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JSTOR</a:t>
            </a:r>
            <a:r>
              <a:rPr b="0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裡的出版品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9" name="Rectangle 10"/>
          <p:cNvSpPr/>
          <p:nvPr/>
        </p:nvSpPr>
        <p:spPr>
          <a:xfrm>
            <a:off x="277920" y="1574640"/>
            <a:ext cx="1896840" cy="3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40" name="Text Box 18"/>
          <p:cNvSpPr/>
          <p:nvPr/>
        </p:nvSpPr>
        <p:spPr>
          <a:xfrm>
            <a:off x="6648480" y="2576520"/>
            <a:ext cx="169560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出版社聯絡資訊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41" name="Rectangle 14"/>
          <p:cNvSpPr/>
          <p:nvPr/>
        </p:nvSpPr>
        <p:spPr>
          <a:xfrm>
            <a:off x="277920" y="2000160"/>
            <a:ext cx="6099120" cy="588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42" name="Rectangle 15"/>
          <p:cNvSpPr/>
          <p:nvPr/>
        </p:nvSpPr>
        <p:spPr>
          <a:xfrm>
            <a:off x="297000" y="2744640"/>
            <a:ext cx="6080040" cy="2266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43" name="Rectangle 16"/>
          <p:cNvSpPr/>
          <p:nvPr/>
        </p:nvSpPr>
        <p:spPr>
          <a:xfrm>
            <a:off x="6519960" y="1771560"/>
            <a:ext cx="1824120" cy="709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Picture 24" descr=""/>
          <p:cNvPicPr/>
          <p:nvPr/>
        </p:nvPicPr>
        <p:blipFill>
          <a:blip r:embed="rId1"/>
          <a:stretch/>
        </p:blipFill>
        <p:spPr>
          <a:xfrm>
            <a:off x="520560" y="1325520"/>
            <a:ext cx="7493040" cy="4444920"/>
          </a:xfrm>
          <a:prstGeom prst="rect">
            <a:avLst/>
          </a:prstGeom>
          <a:ln w="0">
            <a:noFill/>
          </a:ln>
        </p:spPr>
      </p:pic>
      <p:sp>
        <p:nvSpPr>
          <p:cNvPr id="1345" name="Text Box 18"/>
          <p:cNvSpPr/>
          <p:nvPr/>
        </p:nvSpPr>
        <p:spPr>
          <a:xfrm>
            <a:off x="3613320" y="2778120"/>
            <a:ext cx="219204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檢索</a:t>
            </a:r>
            <a:r>
              <a:rPr b="0" lang="en-US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JSTOR</a:t>
            </a:r>
            <a:r>
              <a:rPr b="0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全文內容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727200" y="2149560"/>
            <a:ext cx="6029280" cy="511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47" name="Rectangle 2"/>
          <p:cNvSpPr/>
          <p:nvPr/>
        </p:nvSpPr>
        <p:spPr>
          <a:xfrm>
            <a:off x="450720" y="100080"/>
            <a:ext cx="864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界面使用說明：基本檢索 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Search</a:t>
            </a:r>
            <a:endParaRPr b="1" lang="en-US" sz="3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Picture 20" descr=""/>
          <p:cNvPicPr/>
          <p:nvPr/>
        </p:nvPicPr>
        <p:blipFill>
          <a:blip r:embed="rId1"/>
          <a:stretch/>
        </p:blipFill>
        <p:spPr>
          <a:xfrm>
            <a:off x="206280" y="1068480"/>
            <a:ext cx="8718480" cy="5705280"/>
          </a:xfrm>
          <a:prstGeom prst="rect">
            <a:avLst/>
          </a:prstGeom>
          <a:ln w="0">
            <a:noFill/>
          </a:ln>
        </p:spPr>
      </p:pic>
      <p:sp>
        <p:nvSpPr>
          <p:cNvPr id="1349" name="Text Box 19"/>
          <p:cNvSpPr/>
          <p:nvPr/>
        </p:nvSpPr>
        <p:spPr>
          <a:xfrm>
            <a:off x="3589200" y="1515960"/>
            <a:ext cx="140364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多個檢索欄位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50" name="Text Box 21"/>
          <p:cNvSpPr/>
          <p:nvPr/>
        </p:nvSpPr>
        <p:spPr>
          <a:xfrm>
            <a:off x="1144440" y="3435480"/>
            <a:ext cx="130680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提供限制條件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51" name="Text Box 22"/>
          <p:cNvSpPr/>
          <p:nvPr/>
        </p:nvSpPr>
        <p:spPr>
          <a:xfrm>
            <a:off x="3521160" y="4451400"/>
            <a:ext cx="153972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輸入出版品名稱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52" name="Text Box 23"/>
          <p:cNvSpPr/>
          <p:nvPr/>
        </p:nvSpPr>
        <p:spPr>
          <a:xfrm>
            <a:off x="3182760" y="5335560"/>
            <a:ext cx="154008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限定主題或期刊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353" name="Picture 25" descr=""/>
          <p:cNvPicPr/>
          <p:nvPr/>
        </p:nvPicPr>
        <p:blipFill>
          <a:blip r:embed="rId2"/>
          <a:stretch/>
        </p:blipFill>
        <p:spPr>
          <a:xfrm>
            <a:off x="5456160" y="1722600"/>
            <a:ext cx="847800" cy="74268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26" descr=""/>
          <p:cNvPicPr/>
          <p:nvPr/>
        </p:nvPicPr>
        <p:blipFill>
          <a:blip r:embed="rId3"/>
          <a:stretch/>
        </p:blipFill>
        <p:spPr>
          <a:xfrm>
            <a:off x="2408400" y="1768320"/>
            <a:ext cx="674640" cy="696960"/>
          </a:xfrm>
          <a:prstGeom prst="rect">
            <a:avLst/>
          </a:prstGeom>
          <a:ln w="0">
            <a:noFill/>
          </a:ln>
        </p:spPr>
      </p:pic>
      <p:cxnSp>
        <p:nvCxnSpPr>
          <p:cNvPr id="1355" name="肘形接點 24"/>
          <p:cNvCxnSpPr/>
          <p:nvPr/>
        </p:nvCxnSpPr>
        <p:spPr>
          <a:xfrm>
            <a:off x="5029200" y="1949040"/>
            <a:ext cx="389520" cy="204120"/>
          </a:xfrm>
          <a:prstGeom prst="bentConnector3">
            <a:avLst>
              <a:gd name="adj1" fmla="val 49953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356" name="肘形接點 34"/>
          <p:cNvCxnSpPr/>
          <p:nvPr/>
        </p:nvCxnSpPr>
        <p:spPr>
          <a:xfrm flipV="1">
            <a:off x="1006560" y="2316960"/>
            <a:ext cx="1402560" cy="75240"/>
          </a:xfrm>
          <a:prstGeom prst="bentConnector3">
            <a:avLst>
              <a:gd name="adj1" fmla="val 49935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357" name="Text Box 19"/>
          <p:cNvSpPr/>
          <p:nvPr/>
        </p:nvSpPr>
        <p:spPr>
          <a:xfrm>
            <a:off x="1006560" y="1949400"/>
            <a:ext cx="1123920" cy="27648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15663"/>
                </a:solidFill>
                <a:latin typeface="Arial"/>
                <a:ea typeface="標楷體"/>
              </a:rPr>
              <a:t>新增檢索欄位</a:t>
            </a:r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grpSp>
        <p:nvGrpSpPr>
          <p:cNvPr id="1358" name="Group 21"/>
          <p:cNvGrpSpPr/>
          <p:nvPr/>
        </p:nvGrpSpPr>
        <p:grpSpPr>
          <a:xfrm>
            <a:off x="2130480" y="2554200"/>
            <a:ext cx="3742920" cy="785160"/>
            <a:chOff x="2130480" y="2554200"/>
            <a:chExt cx="3742920" cy="785160"/>
          </a:xfrm>
        </p:grpSpPr>
        <p:sp>
          <p:nvSpPr>
            <p:cNvPr id="1359" name="Text Box 19"/>
            <p:cNvSpPr/>
            <p:nvPr/>
          </p:nvSpPr>
          <p:spPr>
            <a:xfrm>
              <a:off x="2934000" y="2554200"/>
              <a:ext cx="2939400" cy="58068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*</a:t>
              </a: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僅檢索我可以取得全文的部份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*</a:t>
              </a: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包含連結外部的全文部份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60" name="Line 17"/>
            <p:cNvSpPr/>
            <p:nvPr/>
          </p:nvSpPr>
          <p:spPr>
            <a:xfrm>
              <a:off x="2136600" y="2832840"/>
              <a:ext cx="71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61" name="Line 18"/>
            <p:cNvSpPr/>
            <p:nvPr/>
          </p:nvSpPr>
          <p:spPr>
            <a:xfrm>
              <a:off x="2130480" y="3339360"/>
              <a:ext cx="71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</p:grpSp>
      <p:sp>
        <p:nvSpPr>
          <p:cNvPr id="1362" name="Rectangle 16"/>
          <p:cNvSpPr/>
          <p:nvPr/>
        </p:nvSpPr>
        <p:spPr>
          <a:xfrm>
            <a:off x="1393920" y="1589040"/>
            <a:ext cx="1398600" cy="17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63" name="Rectangle 2"/>
          <p:cNvSpPr/>
          <p:nvPr/>
        </p:nvSpPr>
        <p:spPr>
          <a:xfrm>
            <a:off x="434880" y="36360"/>
            <a:ext cx="864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界面使用說明：</a:t>
            </a:r>
            <a:endParaRPr b="1" lang="en-US" sz="32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Book Antiqua"/>
                <a:ea typeface="標楷體"/>
              </a:rPr>
              <a:t>進階檢索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  <a:ea typeface="標楷體"/>
              </a:rPr>
              <a:t>Advanced Search</a:t>
            </a: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Picture 30" descr=""/>
          <p:cNvPicPr/>
          <p:nvPr/>
        </p:nvPicPr>
        <p:blipFill>
          <a:blip r:embed="rId1"/>
          <a:stretch/>
        </p:blipFill>
        <p:spPr>
          <a:xfrm>
            <a:off x="36360" y="1103400"/>
            <a:ext cx="9107640" cy="4681440"/>
          </a:xfrm>
          <a:prstGeom prst="rect">
            <a:avLst/>
          </a:prstGeom>
          <a:ln w="0">
            <a:noFill/>
          </a:ln>
        </p:spPr>
      </p:pic>
      <p:sp>
        <p:nvSpPr>
          <p:cNvPr id="1365" name="Text Box 7"/>
          <p:cNvSpPr/>
          <p:nvPr/>
        </p:nvSpPr>
        <p:spPr>
          <a:xfrm>
            <a:off x="1263600" y="1596960"/>
            <a:ext cx="2832120" cy="36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922640"/>
                </a:solidFill>
                <a:latin typeface="Arial"/>
                <a:ea typeface="標楷體"/>
              </a:rPr>
              <a:t>**</a:t>
            </a:r>
            <a:r>
              <a:rPr b="0" lang="zh-TW" sz="1600" spc="-1" strike="noStrike">
                <a:solidFill>
                  <a:srgbClr val="922640"/>
                </a:solidFill>
                <a:latin typeface="Arial"/>
                <a:ea typeface="標楷體"/>
              </a:rPr>
              <a:t>將已知的文章資訊輸入即可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66" name="Rectangle 16"/>
          <p:cNvSpPr/>
          <p:nvPr/>
        </p:nvSpPr>
        <p:spPr>
          <a:xfrm>
            <a:off x="36360" y="1614600"/>
            <a:ext cx="1227240" cy="342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67" name="Text Box 26"/>
          <p:cNvSpPr/>
          <p:nvPr/>
        </p:nvSpPr>
        <p:spPr>
          <a:xfrm>
            <a:off x="5734080" y="2622600"/>
            <a:ext cx="53964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作者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68" name="Text Box 27"/>
          <p:cNvSpPr/>
          <p:nvPr/>
        </p:nvSpPr>
        <p:spPr>
          <a:xfrm>
            <a:off x="5722920" y="3274920"/>
            <a:ext cx="107316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選擇要查詢的期刊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69" name="Text Box 28"/>
          <p:cNvSpPr/>
          <p:nvPr/>
        </p:nvSpPr>
        <p:spPr>
          <a:xfrm>
            <a:off x="5540400" y="2060640"/>
            <a:ext cx="104760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文獻標題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70" name="Text Box 29"/>
          <p:cNvSpPr/>
          <p:nvPr/>
        </p:nvSpPr>
        <p:spPr>
          <a:xfrm>
            <a:off x="1692360" y="4248000"/>
            <a:ext cx="286380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出版資訊</a:t>
            </a: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-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期刊</a:t>
            </a: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ISSN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卷期</a:t>
            </a: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出版年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71" name="Rectangle 2"/>
          <p:cNvSpPr/>
          <p:nvPr/>
        </p:nvSpPr>
        <p:spPr>
          <a:xfrm>
            <a:off x="404640" y="36360"/>
            <a:ext cx="864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界面使用說明：</a:t>
            </a:r>
            <a:endParaRPr b="1" lang="en-US" sz="32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Book Antiqua"/>
                <a:ea typeface="標楷體"/>
              </a:rPr>
              <a:t>特定文獻查找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  <a:ea typeface="標楷體"/>
              </a:rPr>
              <a:t>Citation Locator</a:t>
            </a: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722160" y="150480"/>
            <a:ext cx="771696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a595f"/>
                </a:solidFill>
                <a:latin typeface="Book Antiqua"/>
              </a:rPr>
              <a:t>內容：</a:t>
            </a:r>
            <a:endParaRPr b="0" lang="en-US" sz="36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062000" y="1240920"/>
            <a:ext cx="695160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5a595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認識</a:t>
            </a:r>
            <a:r>
              <a:rPr b="1" lang="en-US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5a595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界面使用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5a595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MYJSTOR</a:t>
            </a:r>
            <a:r>
              <a:rPr b="1" lang="zh-TW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功能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379440" y="126720"/>
            <a:ext cx="771696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檢索結果列表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1: 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文獻列表 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/ Items Results</a:t>
            </a:r>
            <a:endParaRPr b="0" lang="en-US" sz="32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73" name="Text Box 4"/>
          <p:cNvSpPr/>
          <p:nvPr/>
        </p:nvSpPr>
        <p:spPr>
          <a:xfrm>
            <a:off x="7962840" y="952560"/>
            <a:ext cx="102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74" name="矩形 20"/>
          <p:cNvSpPr/>
          <p:nvPr/>
        </p:nvSpPr>
        <p:spPr>
          <a:xfrm>
            <a:off x="6832440" y="1803240"/>
            <a:ext cx="19465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grpSp>
        <p:nvGrpSpPr>
          <p:cNvPr id="1375" name="群組 24"/>
          <p:cNvGrpSpPr/>
          <p:nvPr/>
        </p:nvGrpSpPr>
        <p:grpSpPr>
          <a:xfrm>
            <a:off x="-12600" y="790560"/>
            <a:ext cx="8372520" cy="6067440"/>
            <a:chOff x="-12600" y="790560"/>
            <a:chExt cx="8372520" cy="6067440"/>
          </a:xfrm>
        </p:grpSpPr>
        <p:pic>
          <p:nvPicPr>
            <p:cNvPr id="1376" name="Picture 21" descr=""/>
            <p:cNvPicPr/>
            <p:nvPr/>
          </p:nvPicPr>
          <p:blipFill>
            <a:blip r:embed="rId1"/>
            <a:stretch/>
          </p:blipFill>
          <p:spPr>
            <a:xfrm>
              <a:off x="-12600" y="790560"/>
              <a:ext cx="8372520" cy="60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AutoShape 24"/>
            <p:cNvSpPr/>
            <p:nvPr/>
          </p:nvSpPr>
          <p:spPr>
            <a:xfrm>
              <a:off x="3772080" y="5673960"/>
              <a:ext cx="914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88" y="-1800"/>
                  </a:moveTo>
                  <a:lnTo>
                    <a:pt x="18900" y="-18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78" name="AutoShape 25"/>
            <p:cNvSpPr/>
            <p:nvPr/>
          </p:nvSpPr>
          <p:spPr>
            <a:xfrm>
              <a:off x="4600800" y="4992840"/>
              <a:ext cx="1596600" cy="609480"/>
            </a:xfrm>
            <a:prstGeom prst="borderCallout1">
              <a:avLst>
                <a:gd name="adj1" fmla="val 18750"/>
                <a:gd name="adj2" fmla="val -8333"/>
                <a:gd name="adj3" fmla="val 104689"/>
                <a:gd name="adj4" fmla="val -474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79" name="AutoShape 30"/>
            <p:cNvSpPr/>
            <p:nvPr/>
          </p:nvSpPr>
          <p:spPr>
            <a:xfrm>
              <a:off x="885960" y="5743800"/>
              <a:ext cx="91404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0138"/>
                <a:gd name="adj5" fmla="val -3125"/>
                <a:gd name="adj6" fmla="val -322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0" name="Text Box 35"/>
            <p:cNvSpPr/>
            <p:nvPr/>
          </p:nvSpPr>
          <p:spPr>
            <a:xfrm>
              <a:off x="1146600" y="1828800"/>
              <a:ext cx="1649160" cy="337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檢索結果筆數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1" name="Text Box 38"/>
            <p:cNvSpPr/>
            <p:nvPr/>
          </p:nvSpPr>
          <p:spPr>
            <a:xfrm>
              <a:off x="360" y="3316680"/>
              <a:ext cx="3657240" cy="337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所有結果 │ 我能閱讀全文的檢索結果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2" name="Text Box 39"/>
            <p:cNvSpPr/>
            <p:nvPr/>
          </p:nvSpPr>
          <p:spPr>
            <a:xfrm>
              <a:off x="1657440" y="3687840"/>
              <a:ext cx="3171600" cy="29448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儲存書目 </a:t>
              </a:r>
              <a:r>
                <a:rPr b="0" lang="en-US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| EMAIL</a:t>
              </a:r>
              <a:r>
                <a:rPr b="0" lang="zh-TW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書目 </a:t>
              </a:r>
              <a:r>
                <a:rPr b="0" lang="en-US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| </a:t>
              </a:r>
              <a:r>
                <a:rPr b="0" lang="zh-TW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輸出書目</a:t>
              </a:r>
              <a:r>
                <a:rPr b="0" lang="en-US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| </a:t>
              </a:r>
              <a:r>
                <a:rPr b="0" lang="zh-TW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追蹤書附</a:t>
              </a:r>
              <a:endParaRPr b="1" lang="en-US" sz="12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3" name="Text Box 18"/>
            <p:cNvSpPr/>
            <p:nvPr/>
          </p:nvSpPr>
          <p:spPr>
            <a:xfrm>
              <a:off x="3666960" y="2739960"/>
              <a:ext cx="2014920" cy="337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Trebuchet MS"/>
                  <a:ea typeface="標楷體"/>
                </a:rPr>
                <a:t>修正檢索策略、字詞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4" name="Rectangle 16"/>
            <p:cNvSpPr/>
            <p:nvPr/>
          </p:nvSpPr>
          <p:spPr>
            <a:xfrm>
              <a:off x="78840" y="1815840"/>
              <a:ext cx="1020600" cy="307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5" name="Rectangle 17"/>
            <p:cNvSpPr/>
            <p:nvPr/>
          </p:nvSpPr>
          <p:spPr>
            <a:xfrm>
              <a:off x="360" y="3050640"/>
              <a:ext cx="1528200" cy="307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6" name="Rectangle 18"/>
            <p:cNvSpPr/>
            <p:nvPr/>
          </p:nvSpPr>
          <p:spPr>
            <a:xfrm>
              <a:off x="3474360" y="2408040"/>
              <a:ext cx="1463400" cy="307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7" name="Text Box 39"/>
            <p:cNvSpPr/>
            <p:nvPr/>
          </p:nvSpPr>
          <p:spPr>
            <a:xfrm>
              <a:off x="225720" y="5402880"/>
              <a:ext cx="2190600" cy="36144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5a595f"/>
                  </a:solidFill>
                  <a:latin typeface="微軟正黑體"/>
                  <a:ea typeface="微軟正黑體"/>
                </a:rPr>
                <a:t>直接閱讀 </a:t>
              </a:r>
              <a:r>
                <a:rPr b="0" lang="en-US" sz="1600" spc="-1" strike="noStrike">
                  <a:solidFill>
                    <a:srgbClr val="5a595f"/>
                  </a:solidFill>
                  <a:latin typeface="微軟正黑體"/>
                  <a:ea typeface="微軟正黑體"/>
                </a:rPr>
                <a:t>| </a:t>
              </a:r>
              <a:r>
                <a:rPr b="0" lang="zh-TW" sz="1600" spc="-1" strike="noStrike">
                  <a:solidFill>
                    <a:srgbClr val="5a595f"/>
                  </a:solidFill>
                  <a:latin typeface="微軟正黑體"/>
                  <a:ea typeface="微軟正黑體"/>
                </a:rPr>
                <a:t>下載</a:t>
              </a:r>
              <a:r>
                <a:rPr b="0" lang="en-US" sz="1600" spc="-1" strike="noStrike">
                  <a:solidFill>
                    <a:srgbClr val="5a595f"/>
                  </a:solidFill>
                  <a:latin typeface="微軟正黑體"/>
                  <a:ea typeface="微軟正黑體"/>
                </a:rPr>
                <a:t>PDF |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8" name="Text Box 36"/>
            <p:cNvSpPr/>
            <p:nvPr/>
          </p:nvSpPr>
          <p:spPr>
            <a:xfrm>
              <a:off x="1106280" y="2454480"/>
              <a:ext cx="931680" cy="30708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415663"/>
                  </a:solidFill>
                  <a:latin typeface="Trebuchet MS"/>
                  <a:ea typeface="標楷體"/>
                </a:rPr>
                <a:t>二次檢索</a:t>
              </a: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9" name="Line 22"/>
            <p:cNvSpPr/>
            <p:nvPr/>
          </p:nvSpPr>
          <p:spPr>
            <a:xfrm>
              <a:off x="2181600" y="2769120"/>
              <a:ext cx="3709440" cy="114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90" name="Text Box 18"/>
            <p:cNvSpPr/>
            <p:nvPr/>
          </p:nvSpPr>
          <p:spPr>
            <a:xfrm>
              <a:off x="5919120" y="3766320"/>
              <a:ext cx="2296800" cy="58068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點選</a:t>
              </a:r>
              <a:r>
                <a:rPr b="0" lang="en-US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”</a:t>
              </a:r>
              <a:r>
                <a:rPr b="0" lang="en-US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Books”</a:t>
              </a: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的標籤，即可看到電子書的檢索結果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91" name="Rectangle 18"/>
            <p:cNvSpPr/>
            <p:nvPr/>
          </p:nvSpPr>
          <p:spPr>
            <a:xfrm>
              <a:off x="1549800" y="2749680"/>
              <a:ext cx="618840" cy="307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92" name="矩形 23"/>
            <p:cNvSpPr/>
            <p:nvPr/>
          </p:nvSpPr>
          <p:spPr>
            <a:xfrm>
              <a:off x="5799960" y="2272680"/>
              <a:ext cx="1946160" cy="182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349200" y="88560"/>
            <a:ext cx="771696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檢索結果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: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文獻全文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HTML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呈現 </a:t>
            </a:r>
            <a:endParaRPr b="0" lang="en-US" sz="3200" spc="-1" strike="noStrike">
              <a:solidFill>
                <a:srgbClr val="5a595f"/>
              </a:solidFill>
              <a:latin typeface="Book Antiqua"/>
            </a:endParaRPr>
          </a:p>
        </p:txBody>
      </p:sp>
      <p:grpSp>
        <p:nvGrpSpPr>
          <p:cNvPr id="1394" name="群組 20"/>
          <p:cNvGrpSpPr/>
          <p:nvPr/>
        </p:nvGrpSpPr>
        <p:grpSpPr>
          <a:xfrm>
            <a:off x="0" y="777960"/>
            <a:ext cx="8391600" cy="6080040"/>
            <a:chOff x="0" y="777960"/>
            <a:chExt cx="8391600" cy="6080040"/>
          </a:xfrm>
        </p:grpSpPr>
        <p:pic>
          <p:nvPicPr>
            <p:cNvPr id="1395" name="Picture 16" descr=""/>
            <p:cNvPicPr/>
            <p:nvPr/>
          </p:nvPicPr>
          <p:blipFill>
            <a:blip r:embed="rId1"/>
            <a:stretch/>
          </p:blipFill>
          <p:spPr>
            <a:xfrm>
              <a:off x="0" y="777960"/>
              <a:ext cx="8391600" cy="60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6" name="Text Box 16"/>
            <p:cNvSpPr/>
            <p:nvPr/>
          </p:nvSpPr>
          <p:spPr>
            <a:xfrm>
              <a:off x="596880" y="4102560"/>
              <a:ext cx="952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97" name="Text Box 17"/>
            <p:cNvSpPr/>
            <p:nvPr/>
          </p:nvSpPr>
          <p:spPr>
            <a:xfrm>
              <a:off x="1066680" y="3746880"/>
              <a:ext cx="72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98" name="Text Box 31"/>
            <p:cNvSpPr/>
            <p:nvPr/>
          </p:nvSpPr>
          <p:spPr>
            <a:xfrm>
              <a:off x="3069360" y="1564200"/>
              <a:ext cx="1907280" cy="36144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回到檢索結果列表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99" name="Text Box 36"/>
            <p:cNvSpPr/>
            <p:nvPr/>
          </p:nvSpPr>
          <p:spPr>
            <a:xfrm>
              <a:off x="7118280" y="2339640"/>
              <a:ext cx="1137240" cy="3175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同一本書的其它章節</a:t>
              </a: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00" name="Text Box 37"/>
            <p:cNvSpPr/>
            <p:nvPr/>
          </p:nvSpPr>
          <p:spPr>
            <a:xfrm>
              <a:off x="1373400" y="2532240"/>
              <a:ext cx="1265040" cy="36144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下載此章節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01" name="Rectangle 19"/>
            <p:cNvSpPr/>
            <p:nvPr/>
          </p:nvSpPr>
          <p:spPr>
            <a:xfrm>
              <a:off x="5015520" y="1508040"/>
              <a:ext cx="1158840" cy="279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02" name="Rectangle 28"/>
            <p:cNvSpPr/>
            <p:nvPr/>
          </p:nvSpPr>
          <p:spPr>
            <a:xfrm>
              <a:off x="0" y="2546640"/>
              <a:ext cx="1280160" cy="314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03" name="圓角矩形 18"/>
            <p:cNvSpPr/>
            <p:nvPr/>
          </p:nvSpPr>
          <p:spPr>
            <a:xfrm>
              <a:off x="6309360" y="2247480"/>
              <a:ext cx="1815480" cy="4440960"/>
            </a:xfrm>
            <a:custGeom>
              <a:avLst/>
              <a:gdLst>
                <a:gd name="textAreaLeft" fmla="*/ 88560 w 1815480"/>
                <a:gd name="textAreaRight" fmla="*/ 1726920 w 1815480"/>
                <a:gd name="textAreaTop" fmla="*/ 88560 h 4440960"/>
                <a:gd name="textAreaBottom" fmla="*/ 4352400 h 4440960"/>
              </a:gdLst>
              <a:ahLst/>
              <a:rect l="textAreaLeft" t="textAreaTop" r="textAreaRight" b="textAreaBottom"/>
              <a:pathLst>
                <a:path w="21600" h="52831">
                  <a:moveTo>
                    <a:pt x="3600" y="0"/>
                  </a:moveTo>
                  <a:arcTo wR="3600" hR="3600" stAng="16200000" swAng="-5400000"/>
                  <a:lnTo>
                    <a:pt x="0" y="49231"/>
                  </a:lnTo>
                  <a:arcTo wR="3600" hR="3600" stAng="10800000" swAng="-5400000"/>
                  <a:lnTo>
                    <a:pt x="18000" y="528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04" name="圓角矩形 19"/>
            <p:cNvSpPr/>
            <p:nvPr/>
          </p:nvSpPr>
          <p:spPr>
            <a:xfrm>
              <a:off x="6217920" y="1999080"/>
              <a:ext cx="1946160" cy="18252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Picture 4" descr=""/>
          <p:cNvPicPr/>
          <p:nvPr/>
        </p:nvPicPr>
        <p:blipFill>
          <a:blip r:embed="rId1"/>
          <a:stretch/>
        </p:blipFill>
        <p:spPr>
          <a:xfrm>
            <a:off x="0" y="847800"/>
            <a:ext cx="6953400" cy="6010200"/>
          </a:xfrm>
          <a:prstGeom prst="rect">
            <a:avLst/>
          </a:prstGeom>
          <a:ln w="0">
            <a:noFill/>
          </a:ln>
        </p:spPr>
      </p:pic>
      <p:sp>
        <p:nvSpPr>
          <p:cNvPr id="1406" name="Rectangle 2"/>
          <p:cNvSpPr/>
          <p:nvPr/>
        </p:nvSpPr>
        <p:spPr>
          <a:xfrm>
            <a:off x="79200" y="87480"/>
            <a:ext cx="7716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檢索結果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: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文獻全文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HTML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呈現 </a:t>
            </a:r>
            <a:endParaRPr b="1" lang="en-US" sz="3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07" name="Rectangle 18"/>
          <p:cNvSpPr/>
          <p:nvPr/>
        </p:nvSpPr>
        <p:spPr>
          <a:xfrm>
            <a:off x="0" y="865080"/>
            <a:ext cx="4454640" cy="308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cxnSp>
        <p:nvCxnSpPr>
          <p:cNvPr id="1408" name="直線單箭頭接點 8"/>
          <p:cNvCxnSpPr>
            <a:stCxn id="1407" idx="3"/>
          </p:cNvCxnSpPr>
          <p:nvPr/>
        </p:nvCxnSpPr>
        <p:spPr>
          <a:xfrm flipV="1">
            <a:off x="4454640" y="1005840"/>
            <a:ext cx="40320" cy="13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09" name="直線單箭頭接點 12"/>
          <p:cNvCxnSpPr/>
          <p:nvPr/>
        </p:nvCxnSpPr>
        <p:spPr>
          <a:xfrm>
            <a:off x="4506480" y="1006560"/>
            <a:ext cx="2769480" cy="1867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10" name="直線單箭頭接點 14"/>
          <p:cNvCxnSpPr>
            <a:stCxn id="1407" idx="3"/>
          </p:cNvCxnSpPr>
          <p:nvPr/>
        </p:nvCxnSpPr>
        <p:spPr>
          <a:xfrm>
            <a:off x="4454640" y="1018800"/>
            <a:ext cx="2769120" cy="1150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11" name="文字方塊 17"/>
          <p:cNvSpPr/>
          <p:nvPr/>
        </p:nvSpPr>
        <p:spPr>
          <a:xfrm>
            <a:off x="7289640" y="2155680"/>
            <a:ext cx="1619280" cy="2284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工具列：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列印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轉方向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縮小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放大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上一頁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下一頁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移動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選取文字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12" name="矩形 18"/>
          <p:cNvSpPr/>
          <p:nvPr/>
        </p:nvSpPr>
        <p:spPr>
          <a:xfrm>
            <a:off x="5643720" y="731880"/>
            <a:ext cx="1409400" cy="482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13" name="文字方塊 19"/>
          <p:cNvSpPr/>
          <p:nvPr/>
        </p:nvSpPr>
        <p:spPr>
          <a:xfrm>
            <a:off x="7105680" y="849240"/>
            <a:ext cx="1828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在本章節中檢索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/>
          </p:nvPr>
        </p:nvSpPr>
        <p:spPr>
          <a:xfrm>
            <a:off x="1062000" y="1240920"/>
            <a:ext cx="695160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cbd7de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認識</a:t>
            </a:r>
            <a:r>
              <a:rPr b="1" lang="en-US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JSTOR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cbd7de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JSTOR</a:t>
            </a:r>
            <a:r>
              <a:rPr b="1" lang="zh-TW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界面使用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5a595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MYJSTOR</a:t>
            </a:r>
            <a:r>
              <a:rPr b="1" lang="zh-TW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功能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Picture 12" descr=""/>
          <p:cNvPicPr/>
          <p:nvPr/>
        </p:nvPicPr>
        <p:blipFill>
          <a:blip r:embed="rId1"/>
          <a:stretch/>
        </p:blipFill>
        <p:spPr>
          <a:xfrm>
            <a:off x="12600" y="1224000"/>
            <a:ext cx="8793360" cy="4143240"/>
          </a:xfrm>
          <a:prstGeom prst="rect">
            <a:avLst/>
          </a:prstGeom>
          <a:ln w="0">
            <a:noFill/>
          </a:ln>
        </p:spPr>
      </p:pic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272520" y="91800"/>
            <a:ext cx="81550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MY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功能說明：個人化書目服務</a:t>
            </a: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Login to MyJSTOR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17" name="Text Box 5"/>
          <p:cNvSpPr/>
          <p:nvPr/>
        </p:nvSpPr>
        <p:spPr>
          <a:xfrm>
            <a:off x="4202280" y="31114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18" name="Text Box 6"/>
          <p:cNvSpPr/>
          <p:nvPr/>
        </p:nvSpPr>
        <p:spPr>
          <a:xfrm>
            <a:off x="1076400" y="31100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19" name="Text Box 7"/>
          <p:cNvSpPr/>
          <p:nvPr/>
        </p:nvSpPr>
        <p:spPr>
          <a:xfrm>
            <a:off x="4535640" y="15588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20" name="Text Box 8"/>
          <p:cNvSpPr/>
          <p:nvPr/>
        </p:nvSpPr>
        <p:spPr>
          <a:xfrm>
            <a:off x="1401840" y="2743200"/>
            <a:ext cx="136692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登入</a:t>
            </a:r>
            <a:r>
              <a:rPr b="0" lang="en-US" sz="1400" spc="-1" strike="noStrike">
                <a:solidFill>
                  <a:srgbClr val="415663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415663"/>
                </a:solidFill>
                <a:latin typeface="Trebuchet MS"/>
              </a:rPr>
              <a:t>MyJSTOR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21" name="Text Box 10"/>
          <p:cNvSpPr/>
          <p:nvPr/>
        </p:nvSpPr>
        <p:spPr>
          <a:xfrm>
            <a:off x="184320" y="4286160"/>
            <a:ext cx="3100320" cy="30708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標楷體"/>
                <a:ea typeface="標楷體"/>
              </a:rPr>
              <a:t>**</a:t>
            </a:r>
            <a:r>
              <a:rPr b="0" lang="zh-TW" sz="1400" spc="-1" strike="noStrike">
                <a:solidFill>
                  <a:srgbClr val="415663"/>
                </a:solidFill>
                <a:latin typeface="標楷體"/>
                <a:ea typeface="標楷體"/>
              </a:rPr>
              <a:t>第一次使用者請先申請個人帳號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22" name="Rectangle 14"/>
          <p:cNvSpPr/>
          <p:nvPr/>
        </p:nvSpPr>
        <p:spPr>
          <a:xfrm>
            <a:off x="212760" y="3984480"/>
            <a:ext cx="1165320" cy="308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3" name="Picture 11" descr=""/>
          <p:cNvPicPr/>
          <p:nvPr/>
        </p:nvPicPr>
        <p:blipFill>
          <a:blip r:embed="rId1"/>
          <a:stretch/>
        </p:blipFill>
        <p:spPr>
          <a:xfrm>
            <a:off x="0" y="1211400"/>
            <a:ext cx="9144000" cy="4546440"/>
          </a:xfrm>
          <a:prstGeom prst="rect">
            <a:avLst/>
          </a:prstGeom>
          <a:ln w="0">
            <a:noFill/>
          </a:ln>
        </p:spPr>
      </p:pic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15720" y="10296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MY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功能說明：</a:t>
            </a:r>
            <a:br>
              <a:rPr sz="3200"/>
            </a:br>
            <a:r>
              <a:rPr b="0" lang="zh-TW" sz="2800" spc="-1" strike="noStrike">
                <a:solidFill>
                  <a:srgbClr val="ff0000"/>
                </a:solidFill>
                <a:latin typeface="Book Antiqua"/>
              </a:rPr>
              <a:t>註冊個人化服務帳號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: MyJSTOR Registration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25" name="Text Box 6"/>
          <p:cNvSpPr/>
          <p:nvPr/>
        </p:nvSpPr>
        <p:spPr>
          <a:xfrm>
            <a:off x="4861080" y="62247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26" name="Text Box 7"/>
          <p:cNvSpPr/>
          <p:nvPr/>
        </p:nvSpPr>
        <p:spPr>
          <a:xfrm>
            <a:off x="1862280" y="30067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27" name="Text Box 8"/>
          <p:cNvSpPr/>
          <p:nvPr/>
        </p:nvSpPr>
        <p:spPr>
          <a:xfrm>
            <a:off x="2820960" y="3959280"/>
            <a:ext cx="2095560" cy="115956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註冊個人化帳號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1.</a:t>
            </a:r>
            <a:r>
              <a:rPr b="0" lang="zh-TW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請填入個人資料</a:t>
            </a:r>
            <a:r>
              <a:rPr b="0" lang="en-US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, “ * ” </a:t>
            </a:r>
            <a:r>
              <a:rPr b="0" lang="zh-TW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為必填之欄位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2.</a:t>
            </a:r>
            <a:r>
              <a:rPr b="0" lang="zh-TW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請同意並接受</a:t>
            </a:r>
            <a:r>
              <a:rPr b="0" lang="en-US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 </a:t>
            </a:r>
            <a:r>
              <a:rPr b="0" lang="en-US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JSTOR Terms and Condition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8" name="Picture 9" descr=""/>
          <p:cNvPicPr/>
          <p:nvPr/>
        </p:nvPicPr>
        <p:blipFill>
          <a:blip r:embed="rId1"/>
          <a:stretch/>
        </p:blipFill>
        <p:spPr>
          <a:xfrm>
            <a:off x="25560" y="1217520"/>
            <a:ext cx="9118440" cy="4416480"/>
          </a:xfrm>
          <a:prstGeom prst="rect">
            <a:avLst/>
          </a:prstGeom>
          <a:ln w="0">
            <a:noFill/>
          </a:ln>
        </p:spPr>
      </p:pic>
      <p:sp>
        <p:nvSpPr>
          <p:cNvPr id="1429" name="Rectangle 13"/>
          <p:cNvSpPr/>
          <p:nvPr/>
        </p:nvSpPr>
        <p:spPr>
          <a:xfrm>
            <a:off x="0" y="3002040"/>
            <a:ext cx="2505240" cy="307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30" name="Rectangle 2"/>
          <p:cNvSpPr/>
          <p:nvPr/>
        </p:nvSpPr>
        <p:spPr>
          <a:xfrm>
            <a:off x="343080" y="103320"/>
            <a:ext cx="7716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MY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功能說明：</a:t>
            </a:r>
            <a:br>
              <a:rPr sz="3200"/>
            </a:br>
            <a:r>
              <a:rPr b="0" lang="zh-TW" sz="2800" spc="-1" strike="noStrike">
                <a:solidFill>
                  <a:srgbClr val="ff0000"/>
                </a:solidFill>
                <a:latin typeface="Book Antiqua"/>
                <a:ea typeface="標楷體"/>
              </a:rPr>
              <a:t>個人書目管理：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  <a:ea typeface="標楷體"/>
              </a:rPr>
              <a:t>Save Citations</a:t>
            </a: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</p:txBody>
      </p:sp>
      <p:grpSp>
        <p:nvGrpSpPr>
          <p:cNvPr id="1431" name="群組 12"/>
          <p:cNvGrpSpPr/>
          <p:nvPr/>
        </p:nvGrpSpPr>
        <p:grpSpPr>
          <a:xfrm>
            <a:off x="50760" y="1603440"/>
            <a:ext cx="8740800" cy="4681440"/>
            <a:chOff x="50760" y="1603440"/>
            <a:chExt cx="8740800" cy="4681440"/>
          </a:xfrm>
        </p:grpSpPr>
        <p:sp>
          <p:nvSpPr>
            <p:cNvPr id="1432" name="Text Box 7"/>
            <p:cNvSpPr/>
            <p:nvPr/>
          </p:nvSpPr>
          <p:spPr>
            <a:xfrm>
              <a:off x="3548160" y="1920600"/>
              <a:ext cx="2930400" cy="328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針對所選擇的書目可依照儲存日期及出版日期的先後排序</a:t>
              </a: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33" name="Text Box 8"/>
            <p:cNvSpPr/>
            <p:nvPr/>
          </p:nvSpPr>
          <p:spPr>
            <a:xfrm>
              <a:off x="5464440" y="4665600"/>
              <a:ext cx="1260360" cy="328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註明每筆書目儲存日期</a:t>
              </a: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34" name="Text Box 10"/>
            <p:cNvSpPr/>
            <p:nvPr/>
          </p:nvSpPr>
          <p:spPr>
            <a:xfrm>
              <a:off x="2593800" y="2973240"/>
              <a:ext cx="4515120" cy="328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輸出書目｜</a:t>
              </a:r>
              <a:r>
                <a:rPr b="0" lang="en-US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EMAIL</a:t>
              </a:r>
              <a:r>
                <a:rPr b="0" lang="zh-TW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書目｜ 追蹤書目 </a:t>
              </a:r>
              <a:r>
                <a:rPr b="0" lang="en-US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|</a:t>
              </a:r>
              <a:r>
                <a:rPr b="0" lang="zh-TW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刪除所勾選的書目</a:t>
              </a: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35" name="Rectangle 10"/>
            <p:cNvSpPr/>
            <p:nvPr/>
          </p:nvSpPr>
          <p:spPr>
            <a:xfrm>
              <a:off x="6940800" y="1603440"/>
              <a:ext cx="1130040" cy="203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36" name="Rectangle 12"/>
            <p:cNvSpPr/>
            <p:nvPr/>
          </p:nvSpPr>
          <p:spPr>
            <a:xfrm>
              <a:off x="147600" y="3262320"/>
              <a:ext cx="241200" cy="30225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37" name="Text Box 9"/>
            <p:cNvSpPr/>
            <p:nvPr/>
          </p:nvSpPr>
          <p:spPr>
            <a:xfrm>
              <a:off x="50760" y="5845320"/>
              <a:ext cx="3365640" cy="328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415663"/>
                  </a:solidFill>
                  <a:latin typeface="標楷體"/>
                  <a:ea typeface="標楷體"/>
                </a:rPr>
                <a:t>勾選所需書目（或用上方全選</a:t>
              </a:r>
              <a:r>
                <a:rPr b="0" lang="en-US" sz="1400" spc="-1" strike="noStrike">
                  <a:solidFill>
                    <a:srgbClr val="415663"/>
                  </a:solidFill>
                  <a:latin typeface="標楷體"/>
                  <a:ea typeface="標楷體"/>
                </a:rPr>
                <a:t>/</a:t>
              </a:r>
              <a:r>
                <a:rPr b="0" lang="zh-TW" sz="1400" spc="-1" strike="noStrike">
                  <a:solidFill>
                    <a:srgbClr val="415663"/>
                  </a:solidFill>
                  <a:latin typeface="標楷體"/>
                  <a:ea typeface="標楷體"/>
                </a:rPr>
                <a:t>全不選）</a:t>
              </a: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38" name="圓角矩形 10"/>
            <p:cNvSpPr/>
            <p:nvPr/>
          </p:nvSpPr>
          <p:spPr>
            <a:xfrm>
              <a:off x="6597000" y="1933200"/>
              <a:ext cx="2194560" cy="27432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a595f"/>
                </a:solidFill>
                <a:latin typeface="Book Antiqua"/>
              </a:rPr>
              <a:t>檢索詞</a:t>
            </a:r>
            <a:r>
              <a:rPr b="1" lang="en-US" sz="2800" spc="-1" strike="noStrike">
                <a:solidFill>
                  <a:srgbClr val="5a595f"/>
                </a:solidFill>
                <a:latin typeface="Book Antiqua"/>
              </a:rPr>
              <a:t>/</a:t>
            </a:r>
            <a:r>
              <a:rPr b="1" lang="zh-TW" sz="2800" spc="-1" strike="noStrike">
                <a:solidFill>
                  <a:srgbClr val="5a595f"/>
                </a:solidFill>
                <a:latin typeface="Book Antiqua"/>
              </a:rPr>
              <a:t>檢索策略儲存</a:t>
            </a:r>
            <a:r>
              <a:rPr b="1" lang="en-US" sz="2800" spc="-1" strike="noStrike">
                <a:solidFill>
                  <a:srgbClr val="5a595f"/>
                </a:solidFill>
                <a:latin typeface="Book Antiqua"/>
              </a:rPr>
              <a:t>: Save Search 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40" name="Text Box 6"/>
          <p:cNvSpPr/>
          <p:nvPr/>
        </p:nvSpPr>
        <p:spPr>
          <a:xfrm>
            <a:off x="3026880" y="3148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Times New Roman"/>
                <a:ea typeface="標楷體"/>
              </a:rPr>
              <a:t></a:t>
            </a: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441" name="Picture 13" descr="2011-03-29_193656"/>
          <p:cNvPicPr/>
          <p:nvPr/>
        </p:nvPicPr>
        <p:blipFill>
          <a:blip r:embed="rId1"/>
          <a:stretch/>
        </p:blipFill>
        <p:spPr>
          <a:xfrm>
            <a:off x="631800" y="1108080"/>
            <a:ext cx="7728120" cy="2878200"/>
          </a:xfrm>
          <a:prstGeom prst="rect">
            <a:avLst/>
          </a:prstGeom>
          <a:ln w="0">
            <a:noFill/>
          </a:ln>
        </p:spPr>
      </p:pic>
      <p:sp>
        <p:nvSpPr>
          <p:cNvPr id="1442" name="Text Box 8"/>
          <p:cNvSpPr/>
          <p:nvPr/>
        </p:nvSpPr>
        <p:spPr>
          <a:xfrm>
            <a:off x="2500200" y="3887640"/>
            <a:ext cx="2070360" cy="6289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針對本次檢索策略及運用的檢索詞加以儲存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443" name="圖片 11" descr="圖片 13-1.png"/>
          <p:cNvPicPr/>
          <p:nvPr/>
        </p:nvPicPr>
        <p:blipFill>
          <a:blip r:embed="rId2"/>
          <a:stretch/>
        </p:blipFill>
        <p:spPr>
          <a:xfrm>
            <a:off x="4684680" y="3430440"/>
            <a:ext cx="3675240" cy="18957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1963800" y="5095800"/>
            <a:ext cx="2606760" cy="6289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可設定定期寄送更新資訊，以掌握最新相關訊息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445" name="圖片 12" descr="圖片 13-2.png"/>
          <p:cNvPicPr/>
          <p:nvPr/>
        </p:nvPicPr>
        <p:blipFill>
          <a:blip r:embed="rId3"/>
          <a:stretch/>
        </p:blipFill>
        <p:spPr>
          <a:xfrm>
            <a:off x="4803840" y="4805280"/>
            <a:ext cx="3038400" cy="72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46" name="圓角矩形 8"/>
          <p:cNvSpPr/>
          <p:nvPr/>
        </p:nvSpPr>
        <p:spPr>
          <a:xfrm>
            <a:off x="6205680" y="1593720"/>
            <a:ext cx="1906560" cy="247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2" descr="title_background"/>
          <p:cNvPicPr/>
          <p:nvPr/>
        </p:nvPicPr>
        <p:blipFill>
          <a:blip r:embed="rId1"/>
          <a:stretch/>
        </p:blipFill>
        <p:spPr>
          <a:xfrm>
            <a:off x="0" y="-19080"/>
            <a:ext cx="9167760" cy="6877080"/>
          </a:xfrm>
          <a:prstGeom prst="rect">
            <a:avLst/>
          </a:prstGeom>
          <a:ln w="0">
            <a:noFill/>
          </a:ln>
        </p:spPr>
      </p:pic>
      <p:sp>
        <p:nvSpPr>
          <p:cNvPr id="1448" name="Text Box 3"/>
          <p:cNvSpPr/>
          <p:nvPr/>
        </p:nvSpPr>
        <p:spPr>
          <a:xfrm>
            <a:off x="5507640" y="2433600"/>
            <a:ext cx="196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1566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415663"/>
                </a:solidFill>
                <a:latin typeface="Arial"/>
                <a:ea typeface="標楷體"/>
              </a:rPr>
              <a:t>產品資訊及教育訓練 請洽：</a:t>
            </a:r>
            <a:endParaRPr b="1" lang="en-US" sz="18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49" name="Text Box 4"/>
          <p:cNvSpPr/>
          <p:nvPr/>
        </p:nvSpPr>
        <p:spPr>
          <a:xfrm>
            <a:off x="4965840" y="3651120"/>
            <a:ext cx="3414600" cy="24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747155"/>
                </a:solidFill>
                <a:latin typeface="標楷體"/>
                <a:ea typeface="標楷體"/>
              </a:rPr>
              <a:t>飛資得知識服務股份有限公司</a:t>
            </a:r>
            <a:endParaRPr b="1" lang="en-US" sz="18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Tel</a:t>
            </a:r>
            <a:r>
              <a:rPr b="0" lang="en-US" sz="1600" spc="-1" strike="noStrike">
                <a:solidFill>
                  <a:srgbClr val="415663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-</a:t>
            </a:r>
            <a:r>
              <a:rPr b="0" lang="en-US" sz="1600" spc="-1" strike="noStrike">
                <a:solidFill>
                  <a:srgbClr val="415663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 (02)26575996 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Fax - (02)26577071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E-mail</a:t>
            </a:r>
            <a:r>
              <a:rPr b="0" lang="en-US" sz="1600" spc="-1" strike="noStrike">
                <a:solidFill>
                  <a:srgbClr val="747155"/>
                </a:solidFill>
                <a:latin typeface="Arial"/>
              </a:rPr>
              <a:t> - </a:t>
            </a: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products@flysheet.com.tw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Website - http://econtent.flysheet.com.tw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450" name="圖片 5" descr="知識服務-en.gif"/>
          <p:cNvPicPr/>
          <p:nvPr/>
        </p:nvPicPr>
        <p:blipFill>
          <a:blip r:embed="rId2"/>
          <a:stretch/>
        </p:blipFill>
        <p:spPr>
          <a:xfrm>
            <a:off x="3944880" y="3675240"/>
            <a:ext cx="102564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1062000" y="1240920"/>
            <a:ext cx="695160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5a595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認識</a:t>
            </a:r>
            <a:r>
              <a:rPr b="1" lang="en-US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cbd7de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JSTOR</a:t>
            </a:r>
            <a:r>
              <a:rPr b="1" lang="zh-TW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界面使用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cbd7de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MYJSTOR</a:t>
            </a:r>
            <a:r>
              <a:rPr b="1" lang="zh-TW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功能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13" descr="Temp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62" name="Rectangle 7"/>
          <p:cNvSpPr/>
          <p:nvPr/>
        </p:nvSpPr>
        <p:spPr>
          <a:xfrm>
            <a:off x="762120" y="1676520"/>
            <a:ext cx="769608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ITHAKA </a:t>
            </a:r>
            <a:r>
              <a:rPr b="1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是一個非營利組織，幫助學術社群使用數位技術來保存學術成果，以可持續發展的方式促進研究和教學。</a:t>
            </a: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我們提供創新的服務以助於利用這些技術並且延續持久的影響，冀能實現這個使命</a:t>
            </a:r>
            <a:r>
              <a:rPr b="1" lang="zh-TW" sz="2800" spc="-1" strike="noStrike">
                <a:solidFill>
                  <a:srgbClr val="415663"/>
                </a:solidFill>
                <a:latin typeface="標楷體"/>
                <a:ea typeface="標楷體"/>
              </a:rPr>
              <a:t>。</a:t>
            </a: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63" name="Rectangle 8"/>
          <p:cNvSpPr/>
          <p:nvPr/>
        </p:nvSpPr>
        <p:spPr>
          <a:xfrm>
            <a:off x="343080" y="228600"/>
            <a:ext cx="62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5a595f"/>
                </a:solidFill>
                <a:latin typeface="Book Antiqua"/>
                <a:ea typeface="標楷體"/>
              </a:rPr>
              <a:t>認識</a:t>
            </a:r>
            <a:r>
              <a:rPr b="1" lang="en-US" sz="36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3600" spc="-1" strike="noStrike">
                <a:solidFill>
                  <a:srgbClr val="5a595f"/>
                </a:solidFill>
                <a:latin typeface="Book Antiqua"/>
                <a:ea typeface="標楷體"/>
              </a:rPr>
              <a:t>：</a:t>
            </a:r>
            <a:r>
              <a:rPr b="1" lang="zh-TW" sz="3600" spc="-1" strike="noStrike">
                <a:solidFill>
                  <a:srgbClr val="595959"/>
                </a:solidFill>
                <a:latin typeface="標楷體"/>
                <a:ea typeface="標楷體"/>
              </a:rPr>
              <a:t>組織簡介</a:t>
            </a:r>
            <a:br>
              <a:rPr sz="3600"/>
            </a:br>
            <a:endParaRPr b="1" lang="en-US" sz="36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11" descr="Temp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5" descr="jstor_logo_small"/>
          <p:cNvPicPr/>
          <p:nvPr/>
        </p:nvPicPr>
        <p:blipFill>
          <a:blip r:embed="rId2"/>
          <a:stretch/>
        </p:blipFill>
        <p:spPr>
          <a:xfrm>
            <a:off x="990720" y="3048120"/>
            <a:ext cx="647640" cy="780840"/>
          </a:xfrm>
          <a:prstGeom prst="rect">
            <a:avLst/>
          </a:prstGeom>
          <a:ln w="0">
            <a:noFill/>
          </a:ln>
        </p:spPr>
      </p:pic>
      <p:sp>
        <p:nvSpPr>
          <p:cNvPr id="1266" name="Rectangle 6"/>
          <p:cNvSpPr/>
          <p:nvPr/>
        </p:nvSpPr>
        <p:spPr>
          <a:xfrm>
            <a:off x="2057400" y="1295280"/>
            <a:ext cx="6705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0000"/>
              </a:lnSpc>
              <a:spcBef>
                <a:spcPts val="388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  <a:ea typeface="標楷體"/>
              </a:rPr>
              <a:t>Ithaka S+R</a:t>
            </a:r>
            <a:r>
              <a:rPr b="0" lang="en-US" sz="2400" spc="-1" strike="noStrike">
                <a:solidFill>
                  <a:srgbClr val="595959"/>
                </a:solidFill>
                <a:latin typeface="Book Antiqua"/>
                <a:ea typeface="標楷體"/>
              </a:rPr>
              <a:t> </a:t>
            </a:r>
            <a:r>
              <a:rPr b="0" lang="zh-TW" sz="2400" spc="-1" strike="noStrike">
                <a:solidFill>
                  <a:srgbClr val="595959"/>
                </a:solidFill>
                <a:latin typeface="Book Antiqua"/>
                <a:ea typeface="標楷體"/>
              </a:rPr>
              <a:t>一項研究和諮詢服務，重點在於網路環境中學術研究和教學活動的轉型，旨在確立我們的社群所面臨的重大問題並且發揮促成變革的作用。</a:t>
            </a: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388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標楷體"/>
              </a:rPr>
              <a:t>JSTOR </a:t>
            </a:r>
            <a:r>
              <a:rPr b="1" lang="zh-TW" sz="2400" spc="-1" strike="noStrike">
                <a:solidFill>
                  <a:srgbClr val="000000"/>
                </a:solidFill>
                <a:latin typeface="Book Antiqua"/>
                <a:ea typeface="標楷體"/>
              </a:rPr>
              <a:t>是一個發現、存取和保存學術內容成果的研究平台。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標楷體"/>
              </a:rPr>
              <a:t>JSTOR—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  <a:ea typeface="標楷體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標楷體"/>
              </a:rPr>
              <a:t>ournal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  <a:ea typeface="標楷體"/>
              </a:rPr>
              <a:t>Stor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標楷體"/>
              </a:rPr>
              <a:t>age</a:t>
            </a: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95959"/>
                </a:solidFill>
                <a:latin typeface="Book Antiqua"/>
                <a:ea typeface="標楷體"/>
              </a:rPr>
              <a:t>　</a:t>
            </a: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388"/>
              </a:spcBef>
              <a:buClr>
                <a:srgbClr val="59595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  <a:ea typeface="標楷體"/>
              </a:rPr>
              <a:t>Portico </a:t>
            </a:r>
            <a:r>
              <a:rPr b="0" lang="zh-TW" sz="2400" spc="-1" strike="noStrike">
                <a:solidFill>
                  <a:srgbClr val="595959"/>
                </a:solidFill>
                <a:latin typeface="Book Antiqua"/>
                <a:ea typeface="標楷體"/>
              </a:rPr>
              <a:t>是一項提供電子期刊、電子書籍和其他學術性電子內容的數位內容保存服務。</a:t>
            </a: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67" name="Rectangle 7"/>
          <p:cNvSpPr/>
          <p:nvPr/>
        </p:nvSpPr>
        <p:spPr>
          <a:xfrm>
            <a:off x="343080" y="228600"/>
            <a:ext cx="62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595959"/>
                </a:solidFill>
                <a:latin typeface="標楷體"/>
                <a:ea typeface="標楷體"/>
              </a:rPr>
              <a:t>認識</a:t>
            </a:r>
            <a:r>
              <a:rPr b="1" lang="en-US" sz="3600" spc="-1" strike="noStrike">
                <a:solidFill>
                  <a:srgbClr val="595959"/>
                </a:solidFill>
                <a:latin typeface="Book Antiqua"/>
                <a:ea typeface="標楷體"/>
              </a:rPr>
              <a:t>JSTOR</a:t>
            </a:r>
            <a:r>
              <a:rPr b="1" lang="zh-TW" sz="3600" spc="-1" strike="noStrike">
                <a:solidFill>
                  <a:srgbClr val="595959"/>
                </a:solidFill>
                <a:latin typeface="標楷體"/>
                <a:ea typeface="標楷體"/>
              </a:rPr>
              <a:t>：服務概述</a:t>
            </a:r>
            <a:endParaRPr b="1" lang="en-US" sz="36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268" name="Picture 8" descr="Ithaka-S+R-final-logo_art"/>
          <p:cNvPicPr/>
          <p:nvPr/>
        </p:nvPicPr>
        <p:blipFill>
          <a:blip r:embed="rId3"/>
          <a:srcRect l="15630" t="21877" r="15630" b="28123"/>
          <a:stretch/>
        </p:blipFill>
        <p:spPr>
          <a:xfrm>
            <a:off x="380880" y="137160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9" descr="Portico-logo_amy"/>
          <p:cNvPicPr/>
          <p:nvPr/>
        </p:nvPicPr>
        <p:blipFill>
          <a:blip r:embed="rId4"/>
          <a:srcRect l="0" t="26986" r="32224" b="0"/>
          <a:stretch/>
        </p:blipFill>
        <p:spPr>
          <a:xfrm>
            <a:off x="-609480" y="4343400"/>
            <a:ext cx="2514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 txBox="1"/>
          <p:nvPr/>
        </p:nvSpPr>
        <p:spPr>
          <a:xfrm>
            <a:off x="-152640" y="1218960"/>
            <a:ext cx="8762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2600">
              <a:spcBef>
                <a:spcPts val="11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JSTOR</a:t>
            </a:r>
            <a:r>
              <a:rPr b="1" lang="zh-TW" sz="2000" spc="-1" strike="noStrike">
                <a:solidFill>
                  <a:srgbClr val="000000"/>
                </a:solidFill>
                <a:latin typeface="Book Antiqua"/>
              </a:rPr>
              <a:t>回溯期刊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： 針對多學科和專門學科的一系列資料庫，可存取超過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,000 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種學術期刊的完整回溯內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739800" indent="-282600">
              <a:spcBef>
                <a:spcPts val="11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JSTOR</a:t>
            </a:r>
            <a:r>
              <a:rPr b="1" lang="zh-TW" sz="2000" spc="-1" strike="noStrike">
                <a:solidFill>
                  <a:srgbClr val="000000"/>
                </a:solidFill>
                <a:latin typeface="Book Antiqua"/>
              </a:rPr>
              <a:t>學術現刊計劃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： 最新的各期期刊以資料庫或單獨出版物的形式提供。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739800" indent="-282600">
              <a:spcBef>
                <a:spcPts val="11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rimary Source Collection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： 我們得以透過與各大圖書館、博物館和學術協會的合作，提供多種主要來源資料庫，</a:t>
            </a:r>
            <a:r>
              <a:rPr b="0" lang="zh-TW" sz="2000" spc="-1" strike="noStrike">
                <a:solidFill>
                  <a:srgbClr val="595959"/>
                </a:solidFill>
                <a:latin typeface="Book Antiqua"/>
              </a:rPr>
              <a:t>以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補充期刊資料庫。 這些主要來源資料庫包括專論、宣傳冊、信件、原始標本、政府文書、圖紙和畫作等等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739800" indent="-282600">
              <a:spcBef>
                <a:spcPts val="11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JSTOR </a:t>
            </a:r>
            <a:r>
              <a:rPr b="1" lang="zh-TW" sz="2000" spc="-1" strike="noStrike">
                <a:solidFill>
                  <a:srgbClr val="000000"/>
                </a:solidFill>
                <a:latin typeface="Book Antiqua"/>
              </a:rPr>
              <a:t>電子書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： 從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012 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年秋季開始，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STOR 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平台將會增添來自一流大學出版社和其他學術出版機構的圖書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71" name="Rectangle 8"/>
          <p:cNvSpPr/>
          <p:nvPr/>
        </p:nvSpPr>
        <p:spPr>
          <a:xfrm>
            <a:off x="343080" y="228600"/>
            <a:ext cx="61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747155"/>
                </a:solidFill>
                <a:latin typeface="標楷體"/>
                <a:ea typeface="標楷體"/>
              </a:rPr>
              <a:t>認識</a:t>
            </a:r>
            <a:r>
              <a:rPr b="1" lang="en-US" sz="3600" spc="-1" strike="noStrike">
                <a:solidFill>
                  <a:srgbClr val="747155"/>
                </a:solidFill>
                <a:latin typeface="Book Antiqua"/>
                <a:ea typeface="標楷體"/>
              </a:rPr>
              <a:t>JSTOR</a:t>
            </a:r>
            <a:r>
              <a:rPr b="1" lang="zh-TW" sz="3600" spc="-1" strike="noStrike">
                <a:solidFill>
                  <a:srgbClr val="747155"/>
                </a:solidFill>
                <a:latin typeface="標楷體"/>
                <a:ea typeface="標楷體"/>
              </a:rPr>
              <a:t>：出版品及服務</a:t>
            </a:r>
            <a:endParaRPr b="1" lang="en-US" sz="36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23720" y="107640"/>
            <a:ext cx="771696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22640"/>
                </a:solidFill>
                <a:latin typeface="Book Antiqua"/>
              </a:rPr>
              <a:t>認識</a:t>
            </a:r>
            <a:r>
              <a:rPr b="1" lang="en-US" sz="3600" spc="-1" strike="noStrike">
                <a:solidFill>
                  <a:srgbClr val="922640"/>
                </a:solidFill>
                <a:latin typeface="Book Antiqua"/>
              </a:rPr>
              <a:t>JSTOR</a:t>
            </a:r>
            <a:r>
              <a:rPr b="1" lang="zh-TW" sz="3600" spc="-1" strike="noStrike">
                <a:solidFill>
                  <a:srgbClr val="922640"/>
                </a:solidFill>
                <a:latin typeface="Book Antiqua"/>
              </a:rPr>
              <a:t>：目標</a:t>
            </a:r>
            <a:endParaRPr b="0" lang="en-US" sz="36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23360" y="964800"/>
            <a:ext cx="831564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Book Antiqua"/>
                <a:ea typeface="標楷體"/>
              </a:rPr>
              <a:t>完整收錄學術期刊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JSTOR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從刊物的第一卷第一期製作電子版本，同時完含完整的卷期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,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目的在建立可信賴及全面性的學術期刊資料庫 。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JSTOR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提供與原始期刊相同之期刊頁面，同時提供全文檢索。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Book Antiqua"/>
                <a:ea typeface="標楷體"/>
              </a:rPr>
              <a:t>減少圖書館館藏空間不足的困擾，並做永久保存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將紙本式期刊轉換成可節省空間的電子期刊。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減少圖書館長期保存期刊文獻的資本及營運成本。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Book Antiqua"/>
                <a:ea typeface="標楷體"/>
              </a:rPr>
              <a:t>協助研究機構及出版社將出版品轉換成電子檔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JSTOR Archive collections---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回溯期刊收錄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平均有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3-5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的時間間隔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JSTOR Current Scholarship Program (CSP) ---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現刊收錄，自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011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開始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JSTOR E-books --- 2012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開始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提供文獻連結功能協助取得更多全文。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20280" y="147600"/>
            <a:ext cx="757548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5a595f"/>
                </a:solidFill>
                <a:latin typeface="Book Antiqua"/>
              </a:rPr>
              <a:t>認識</a:t>
            </a:r>
            <a:r>
              <a:rPr b="1" lang="en-US" sz="3600" spc="-1" strike="noStrike">
                <a:solidFill>
                  <a:srgbClr val="5a595f"/>
                </a:solidFill>
                <a:latin typeface="Book Antiqua"/>
              </a:rPr>
              <a:t>JSTOR</a:t>
            </a:r>
            <a:r>
              <a:rPr b="1" lang="zh-TW" sz="3600" spc="-1" strike="noStrike">
                <a:solidFill>
                  <a:srgbClr val="5a595f"/>
                </a:solidFill>
                <a:latin typeface="Book Antiqua"/>
              </a:rPr>
              <a:t>：其特色及重要性</a:t>
            </a:r>
            <a:endParaRPr b="0" lang="en-US" sz="36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98040" y="891720"/>
            <a:ext cx="611028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JSTOR</a:t>
            </a: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選擇期刊的原則主要有以下四點：</a:t>
            </a: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訂購該期刊的圖書館數量</a:t>
            </a: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該期刊的影響指數</a:t>
            </a: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SzPct val="1157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各學科專家推薦意見</a:t>
            </a: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期刊發行的年代長短。</a:t>
            </a: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JSTOR’s Participating </a:t>
            </a: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出版社資訊</a:t>
            </a: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</p:txBody>
      </p:sp>
      <p:graphicFrame>
        <p:nvGraphicFramePr>
          <p:cNvPr id="1276" name="Object 6"/>
          <p:cNvGraphicFramePr/>
          <p:nvPr/>
        </p:nvGraphicFramePr>
        <p:xfrm>
          <a:off x="800280" y="3044880"/>
          <a:ext cx="6108480" cy="33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280" y="3044880"/>
                    <a:ext cx="610848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8" name=""/>
          <p:cNvGraphicFramePr/>
          <p:nvPr/>
        </p:nvGraphicFramePr>
        <p:xfrm>
          <a:off x="5607000" y="898560"/>
          <a:ext cx="3198960" cy="2190600"/>
        </p:xfrm>
        <a:graphic>
          <a:graphicData uri="http://schemas.openxmlformats.org/drawingml/2006/table">
            <a:tbl>
              <a:tblPr/>
              <a:tblGrid>
                <a:gridCol w="2077920"/>
                <a:gridCol w="1121040"/>
              </a:tblGrid>
              <a:tr h="365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922640"/>
                          </a:solidFill>
                          <a:latin typeface="Book Antiqua"/>
                          <a:ea typeface="標楷體"/>
                        </a:rPr>
                        <a:t>**</a:t>
                      </a:r>
                      <a:r>
                        <a:rPr b="0" lang="en-US" sz="1600" spc="-1" strike="noStrike">
                          <a:solidFill>
                            <a:srgbClr val="922640"/>
                          </a:solidFill>
                          <a:latin typeface="Book Antiqua"/>
                          <a:ea typeface="標楷體"/>
                        </a:rPr>
                        <a:t>JSTOR </a:t>
                      </a:r>
                      <a:r>
                        <a:rPr b="0" lang="zh-TW" sz="1600" spc="-1" strike="noStrike">
                          <a:solidFill>
                            <a:srgbClr val="922640"/>
                          </a:solidFill>
                          <a:latin typeface="Book Antiqua"/>
                          <a:ea typeface="標楷體"/>
                        </a:rPr>
                        <a:t>會員資訊及出版社資訊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美國境內會員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2,993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國際會員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5,009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會員數合計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7,027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分佈國家數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156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參與出版社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817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/>
          </p:nvPr>
        </p:nvSpPr>
        <p:spPr>
          <a:xfrm>
            <a:off x="1062000" y="1240920"/>
            <a:ext cx="695160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cbd7de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認識</a:t>
            </a:r>
            <a:r>
              <a:rPr b="1" lang="en-US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JSTOR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5a595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界面使用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cbd7de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MYJSTOR</a:t>
            </a:r>
            <a:r>
              <a:rPr b="1" lang="zh-TW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功能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6:29:03Z</dcterms:created>
  <dc:creator>jcrowe</dc:creator>
  <dc:description/>
  <dc:language>en-US</dc:language>
  <cp:lastModifiedBy>rikachin</cp:lastModifiedBy>
  <dcterms:modified xsi:type="dcterms:W3CDTF">2014-11-18T09:08:26Z</dcterms:modified>
  <cp:revision>432</cp:revision>
  <dc:subject/>
  <dc:title>Slide 1</dc:title>
</cp:coreProperties>
</file>